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7.xml.rels" ContentType="application/vnd.openxmlformats-package.relationships+xml"/>
  <Override PartName="/ppt/slides/_rels/slide147.xml.rels" ContentType="application/vnd.openxmlformats-package.relationships+xml"/>
  <Override PartName="/ppt/slides/_rels/slide18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17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79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  <p:sldId id="364" r:id="rId116"/>
    <p:sldId id="365" r:id="rId117"/>
    <p:sldId id="366" r:id="rId118"/>
    <p:sldId id="367" r:id="rId119"/>
    <p:sldId id="368" r:id="rId120"/>
    <p:sldId id="369" r:id="rId121"/>
    <p:sldId id="370" r:id="rId122"/>
    <p:sldId id="371" r:id="rId123"/>
    <p:sldId id="372" r:id="rId124"/>
    <p:sldId id="373" r:id="rId125"/>
    <p:sldId id="374" r:id="rId126"/>
    <p:sldId id="375" r:id="rId127"/>
    <p:sldId id="376" r:id="rId128"/>
    <p:sldId id="377" r:id="rId129"/>
    <p:sldId id="378" r:id="rId130"/>
    <p:sldId id="379" r:id="rId131"/>
    <p:sldId id="380" r:id="rId132"/>
    <p:sldId id="381" r:id="rId133"/>
    <p:sldId id="382" r:id="rId134"/>
    <p:sldId id="383" r:id="rId135"/>
    <p:sldId id="384" r:id="rId136"/>
    <p:sldId id="385" r:id="rId137"/>
    <p:sldId id="386" r:id="rId138"/>
    <p:sldId id="387" r:id="rId139"/>
    <p:sldId id="388" r:id="rId140"/>
    <p:sldId id="389" r:id="rId141"/>
    <p:sldId id="390" r:id="rId142"/>
    <p:sldId id="391" r:id="rId143"/>
    <p:sldId id="392" r:id="rId144"/>
    <p:sldId id="393" r:id="rId145"/>
    <p:sldId id="394" r:id="rId146"/>
    <p:sldId id="395" r:id="rId147"/>
    <p:sldId id="396" r:id="rId148"/>
    <p:sldId id="397" r:id="rId149"/>
    <p:sldId id="398" r:id="rId150"/>
    <p:sldId id="399" r:id="rId151"/>
    <p:sldId id="400" r:id="rId152"/>
    <p:sldId id="401" r:id="rId153"/>
    <p:sldId id="402" r:id="rId154"/>
    <p:sldId id="403" r:id="rId155"/>
    <p:sldId id="404" r:id="rId156"/>
    <p:sldId id="405" r:id="rId157"/>
    <p:sldId id="406" r:id="rId158"/>
    <p:sldId id="407" r:id="rId159"/>
    <p:sldId id="408" r:id="rId160"/>
    <p:sldId id="409" r:id="rId161"/>
    <p:sldId id="410" r:id="rId162"/>
    <p:sldId id="411" r:id="rId163"/>
    <p:sldId id="412" r:id="rId164"/>
    <p:sldId id="413" r:id="rId165"/>
    <p:sldId id="414" r:id="rId166"/>
    <p:sldId id="415" r:id="rId167"/>
    <p:sldId id="416" r:id="rId168"/>
    <p:sldId id="417" r:id="rId169"/>
    <p:sldId id="418" r:id="rId170"/>
    <p:sldId id="419" r:id="rId171"/>
    <p:sldId id="420" r:id="rId172"/>
    <p:sldId id="421" r:id="rId173"/>
    <p:sldId id="422" r:id="rId174"/>
    <p:sldId id="423" r:id="rId175"/>
    <p:sldId id="424" r:id="rId176"/>
    <p:sldId id="425" r:id="rId177"/>
    <p:sldId id="426" r:id="rId178"/>
    <p:sldId id="427" r:id="rId179"/>
    <p:sldId id="428" r:id="rId180"/>
    <p:sldId id="429" r:id="rId181"/>
    <p:sldId id="430" r:id="rId182"/>
    <p:sldId id="431" r:id="rId183"/>
    <p:sldId id="432" r:id="rId184"/>
    <p:sldId id="433" r:id="rId185"/>
    <p:sldId id="434" r:id="rId186"/>
    <p:sldId id="435" r:id="rId187"/>
    <p:sldId id="436" r:id="rId188"/>
    <p:sldId id="437" r:id="rId189"/>
    <p:sldId id="438" r:id="rId190"/>
    <p:sldId id="439" r:id="rId1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slide" Target="slides/slide109.xml"/><Relationship Id="rId117" Type="http://schemas.openxmlformats.org/officeDocument/2006/relationships/slide" Target="slides/slide110.xml"/><Relationship Id="rId118" Type="http://schemas.openxmlformats.org/officeDocument/2006/relationships/slide" Target="slides/slide111.xml"/><Relationship Id="rId119" Type="http://schemas.openxmlformats.org/officeDocument/2006/relationships/slide" Target="slides/slide112.xml"/><Relationship Id="rId120" Type="http://schemas.openxmlformats.org/officeDocument/2006/relationships/slide" Target="slides/slide113.xml"/><Relationship Id="rId121" Type="http://schemas.openxmlformats.org/officeDocument/2006/relationships/slide" Target="slides/slide114.xml"/><Relationship Id="rId122" Type="http://schemas.openxmlformats.org/officeDocument/2006/relationships/slide" Target="slides/slide115.xml"/><Relationship Id="rId123" Type="http://schemas.openxmlformats.org/officeDocument/2006/relationships/slide" Target="slides/slide116.xml"/><Relationship Id="rId124" Type="http://schemas.openxmlformats.org/officeDocument/2006/relationships/slide" Target="slides/slide117.xml"/><Relationship Id="rId125" Type="http://schemas.openxmlformats.org/officeDocument/2006/relationships/slide" Target="slides/slide118.xml"/><Relationship Id="rId126" Type="http://schemas.openxmlformats.org/officeDocument/2006/relationships/slide" Target="slides/slide119.xml"/><Relationship Id="rId127" Type="http://schemas.openxmlformats.org/officeDocument/2006/relationships/slide" Target="slides/slide120.xml"/><Relationship Id="rId128" Type="http://schemas.openxmlformats.org/officeDocument/2006/relationships/slide" Target="slides/slide121.xml"/><Relationship Id="rId129" Type="http://schemas.openxmlformats.org/officeDocument/2006/relationships/slide" Target="slides/slide122.xml"/><Relationship Id="rId130" Type="http://schemas.openxmlformats.org/officeDocument/2006/relationships/slide" Target="slides/slide123.xml"/><Relationship Id="rId131" Type="http://schemas.openxmlformats.org/officeDocument/2006/relationships/slide" Target="slides/slide124.xml"/><Relationship Id="rId132" Type="http://schemas.openxmlformats.org/officeDocument/2006/relationships/slide" Target="slides/slide125.xml"/><Relationship Id="rId133" Type="http://schemas.openxmlformats.org/officeDocument/2006/relationships/slide" Target="slides/slide126.xml"/><Relationship Id="rId134" Type="http://schemas.openxmlformats.org/officeDocument/2006/relationships/slide" Target="slides/slide127.xml"/><Relationship Id="rId135" Type="http://schemas.openxmlformats.org/officeDocument/2006/relationships/slide" Target="slides/slide128.xml"/><Relationship Id="rId136" Type="http://schemas.openxmlformats.org/officeDocument/2006/relationships/slide" Target="slides/slide129.xml"/><Relationship Id="rId137" Type="http://schemas.openxmlformats.org/officeDocument/2006/relationships/slide" Target="slides/slide130.xml"/><Relationship Id="rId138" Type="http://schemas.openxmlformats.org/officeDocument/2006/relationships/slide" Target="slides/slide131.xml"/><Relationship Id="rId139" Type="http://schemas.openxmlformats.org/officeDocument/2006/relationships/slide" Target="slides/slide132.xml"/><Relationship Id="rId140" Type="http://schemas.openxmlformats.org/officeDocument/2006/relationships/slide" Target="slides/slide133.xml"/><Relationship Id="rId141" Type="http://schemas.openxmlformats.org/officeDocument/2006/relationships/slide" Target="slides/slide134.xml"/><Relationship Id="rId142" Type="http://schemas.openxmlformats.org/officeDocument/2006/relationships/slide" Target="slides/slide135.xml"/><Relationship Id="rId143" Type="http://schemas.openxmlformats.org/officeDocument/2006/relationships/slide" Target="slides/slide136.xml"/><Relationship Id="rId144" Type="http://schemas.openxmlformats.org/officeDocument/2006/relationships/slide" Target="slides/slide137.xml"/><Relationship Id="rId145" Type="http://schemas.openxmlformats.org/officeDocument/2006/relationships/slide" Target="slides/slide138.xml"/><Relationship Id="rId146" Type="http://schemas.openxmlformats.org/officeDocument/2006/relationships/slide" Target="slides/slide139.xml"/><Relationship Id="rId147" Type="http://schemas.openxmlformats.org/officeDocument/2006/relationships/slide" Target="slides/slide140.xml"/><Relationship Id="rId148" Type="http://schemas.openxmlformats.org/officeDocument/2006/relationships/slide" Target="slides/slide141.xml"/><Relationship Id="rId149" Type="http://schemas.openxmlformats.org/officeDocument/2006/relationships/slide" Target="slides/slide142.xml"/><Relationship Id="rId150" Type="http://schemas.openxmlformats.org/officeDocument/2006/relationships/slide" Target="slides/slide143.xml"/><Relationship Id="rId151" Type="http://schemas.openxmlformats.org/officeDocument/2006/relationships/slide" Target="slides/slide144.xml"/><Relationship Id="rId152" Type="http://schemas.openxmlformats.org/officeDocument/2006/relationships/slide" Target="slides/slide145.xml"/><Relationship Id="rId153" Type="http://schemas.openxmlformats.org/officeDocument/2006/relationships/slide" Target="slides/slide146.xml"/><Relationship Id="rId154" Type="http://schemas.openxmlformats.org/officeDocument/2006/relationships/slide" Target="slides/slide147.xml"/><Relationship Id="rId155" Type="http://schemas.openxmlformats.org/officeDocument/2006/relationships/slide" Target="slides/slide148.xml"/><Relationship Id="rId156" Type="http://schemas.openxmlformats.org/officeDocument/2006/relationships/slide" Target="slides/slide149.xml"/><Relationship Id="rId157" Type="http://schemas.openxmlformats.org/officeDocument/2006/relationships/slide" Target="slides/slide150.xml"/><Relationship Id="rId158" Type="http://schemas.openxmlformats.org/officeDocument/2006/relationships/slide" Target="slides/slide151.xml"/><Relationship Id="rId159" Type="http://schemas.openxmlformats.org/officeDocument/2006/relationships/slide" Target="slides/slide152.xml"/><Relationship Id="rId160" Type="http://schemas.openxmlformats.org/officeDocument/2006/relationships/slide" Target="slides/slide153.xml"/><Relationship Id="rId161" Type="http://schemas.openxmlformats.org/officeDocument/2006/relationships/slide" Target="slides/slide154.xml"/><Relationship Id="rId162" Type="http://schemas.openxmlformats.org/officeDocument/2006/relationships/slide" Target="slides/slide155.xml"/><Relationship Id="rId163" Type="http://schemas.openxmlformats.org/officeDocument/2006/relationships/slide" Target="slides/slide156.xml"/><Relationship Id="rId164" Type="http://schemas.openxmlformats.org/officeDocument/2006/relationships/slide" Target="slides/slide157.xml"/><Relationship Id="rId165" Type="http://schemas.openxmlformats.org/officeDocument/2006/relationships/slide" Target="slides/slide158.xml"/><Relationship Id="rId166" Type="http://schemas.openxmlformats.org/officeDocument/2006/relationships/slide" Target="slides/slide159.xml"/><Relationship Id="rId167" Type="http://schemas.openxmlformats.org/officeDocument/2006/relationships/slide" Target="slides/slide160.xml"/><Relationship Id="rId168" Type="http://schemas.openxmlformats.org/officeDocument/2006/relationships/slide" Target="slides/slide161.xml"/><Relationship Id="rId169" Type="http://schemas.openxmlformats.org/officeDocument/2006/relationships/slide" Target="slides/slide162.xml"/><Relationship Id="rId170" Type="http://schemas.openxmlformats.org/officeDocument/2006/relationships/slide" Target="slides/slide163.xml"/><Relationship Id="rId171" Type="http://schemas.openxmlformats.org/officeDocument/2006/relationships/slide" Target="slides/slide164.xml"/><Relationship Id="rId172" Type="http://schemas.openxmlformats.org/officeDocument/2006/relationships/slide" Target="slides/slide165.xml"/><Relationship Id="rId173" Type="http://schemas.openxmlformats.org/officeDocument/2006/relationships/slide" Target="slides/slide166.xml"/><Relationship Id="rId174" Type="http://schemas.openxmlformats.org/officeDocument/2006/relationships/slide" Target="slides/slide167.xml"/><Relationship Id="rId175" Type="http://schemas.openxmlformats.org/officeDocument/2006/relationships/slide" Target="slides/slide168.xml"/><Relationship Id="rId176" Type="http://schemas.openxmlformats.org/officeDocument/2006/relationships/slide" Target="slides/slide169.xml"/><Relationship Id="rId177" Type="http://schemas.openxmlformats.org/officeDocument/2006/relationships/slide" Target="slides/slide170.xml"/><Relationship Id="rId178" Type="http://schemas.openxmlformats.org/officeDocument/2006/relationships/slide" Target="slides/slide171.xml"/><Relationship Id="rId179" Type="http://schemas.openxmlformats.org/officeDocument/2006/relationships/slide" Target="slides/slide172.xml"/><Relationship Id="rId180" Type="http://schemas.openxmlformats.org/officeDocument/2006/relationships/slide" Target="slides/slide173.xml"/><Relationship Id="rId181" Type="http://schemas.openxmlformats.org/officeDocument/2006/relationships/slide" Target="slides/slide174.xml"/><Relationship Id="rId182" Type="http://schemas.openxmlformats.org/officeDocument/2006/relationships/slide" Target="slides/slide175.xml"/><Relationship Id="rId183" Type="http://schemas.openxmlformats.org/officeDocument/2006/relationships/slide" Target="slides/slide176.xml"/><Relationship Id="rId184" Type="http://schemas.openxmlformats.org/officeDocument/2006/relationships/slide" Target="slides/slide177.xml"/><Relationship Id="rId185" Type="http://schemas.openxmlformats.org/officeDocument/2006/relationships/slide" Target="slides/slide178.xml"/><Relationship Id="rId186" Type="http://schemas.openxmlformats.org/officeDocument/2006/relationships/slide" Target="slides/slide179.xml"/><Relationship Id="rId187" Type="http://schemas.openxmlformats.org/officeDocument/2006/relationships/slide" Target="slides/slide180.xml"/><Relationship Id="rId188" Type="http://schemas.openxmlformats.org/officeDocument/2006/relationships/slide" Target="slides/slide181.xml"/><Relationship Id="rId189" Type="http://schemas.openxmlformats.org/officeDocument/2006/relationships/slide" Target="slides/slide182.xml"/><Relationship Id="rId190" Type="http://schemas.openxmlformats.org/officeDocument/2006/relationships/slide" Target="slides/slide183.xml"/><Relationship Id="rId191" Type="http://schemas.openxmlformats.org/officeDocument/2006/relationships/slide" Target="slides/slide184.xml"/><Relationship Id="rId1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E81C-123D-43EA-A4DA-9C7B4E2A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BEC-CCCB-4515-B683-17A9FA9E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72C-F77A-4399-97F8-F4167397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C2A-8AF5-492B-9457-1BABFBF1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0C07-BE5F-4EDD-9E56-F1AAE8F7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1FB4-0D67-4ED6-8D2D-B0C1C86C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5255-558E-4E7D-B4F3-3031BFA0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E282-B173-40E6-A168-E5325475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F89E-2791-4B44-BAC0-FB046DD2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0AAD-4387-4942-B84E-6C373BC2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4837-3EA1-4DEC-B483-DD990BB8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DC3-1A1A-4E08-BEF2-8BC000EC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2FA8-1199-453F-A037-426B8312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5AB8-C6C1-4E6E-822C-35457517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667B-0F13-48C4-B9D1-1B2D9833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9032-3A61-4F96-BD7B-1D79A197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E439-83A4-4DE8-AA73-7321EC26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7A2F3-9994-4974-A630-79EAAD86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D54D4-87B2-43C0-8688-5C63EA49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C199-5CE4-486B-900E-F6342333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9F48F-A4F3-40EF-90BC-19FB5260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48AD4-B0EE-4C14-B643-5AA7F574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B89-D160-4DEF-996B-3959A930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A8DB-37C5-4AEC-814D-01C7E48E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5AFDD-E526-4B27-ACDC-B925017A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112BE-A6D6-419A-9D08-FE171323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0EDBD-C91D-4D4C-9059-3894D0A2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F9E1B-C45C-45AA-87D7-E0D8C02F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214B0-1656-4C2D-B570-3F1A2206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E49A-CC0B-447D-850E-722F4FB4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5BE1B-65C6-4514-A42F-FC0529D3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F48D4-667F-4870-BE2B-64071FFD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902F1-4D28-4E49-B39F-31BCC21B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632-8E15-4B96-BB32-0E465C65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0E5E4-C600-4274-8196-C4DEF9D7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6176F-343B-43B9-A664-5558297B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1CDAE-EAEB-4E7B-A92A-EC9BB0E2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C6B31-79F8-4153-858A-CAEEC3A5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B228D-3079-4C03-83D7-F9450311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DC442-1E8C-4110-903D-8C8F5A5F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95BCD-139A-48E7-97C9-ECBE2459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9FE8A-2EB1-4DA4-B1E8-51A4E76D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A1F2A-EDC6-4F3E-A554-D433D696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94F78-8E50-4091-9468-E7DAD83C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E2FE-11C2-4E35-BFD7-12B9EE7C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F3E2D-618D-44F0-94B4-88EE2941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4F9D9-A5F3-412D-8C13-657CE38F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97282-E46A-4E17-AAB9-F9BF09DA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17487-634B-4152-A007-8E3E906F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905D6-5080-48D6-BC09-88569683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3CF70-1F49-482A-8E00-FE5B3E2F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77687-AF58-435A-93FB-BE36DB27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97E6E-1006-4DC7-B65A-D52CC19D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96DA0-965A-4113-B9D1-0552BF7B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35C02-2028-4F35-A8A7-C05E494F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C13-4804-49F4-92A9-E8F2893E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9C136-E78B-4DF9-94C0-A1721DF8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00A84-9E84-41C5-94CB-06BC7E98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B591C-0D66-4853-AC34-20C863C3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96357-7A26-4E5F-B6B5-D7F9D9E9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64927-67C8-4288-BF01-99025B09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628CE-7D40-45F5-B58C-8C0C213B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43412-7866-486D-B5B7-0D8C14A4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BC596-FF0C-4803-96D9-A92624A0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B80D2-E827-47B0-8E7B-48ABB8F6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B8508-A3C3-47A9-A3B7-E81AF55D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00E-F7FE-429D-BEA0-C2BDC9DC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06E14-00FD-4BC9-BAA0-47A36911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4D4AC-99D7-4BFF-B9F8-FD509F34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2311B-378A-44B4-8043-E2B66A63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162-B959-4654-B91E-163853BC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AB9-9574-4A91-BDE4-BBE69ADF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A398-ADC8-4FAC-BF32-7B9706064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3107-7D06-4908-9A00-FD020C5FB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43FC-B223-4597-A4BF-95605F6E6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8844-DB60-4BD2-ABA3-73F8C8908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1F92-9940-4CFB-9F67-D0774670E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9BC3-431C-4510-9338-550AB1592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65040" y="472392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тория государства и права Росси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050920" y="5641920"/>
            <a:ext cx="696456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, метод и периодизация истории государства и права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одизация курса истории государства и права Росс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тское государство и право (октябрь 1917 г. – начало 90-х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овление новой постсоветской государственности и права ( 1991 г. – наше 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ловно- правовые преобразования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3"/>
          <p:cNvGrpSpPr/>
          <p:nvPr/>
        </p:nvGrpSpPr>
        <p:grpSpPr>
          <a:xfrm>
            <a:off x="826920" y="2708280"/>
            <a:ext cx="7777080" cy="1294920"/>
            <a:chOff x="826920" y="2708280"/>
            <a:chExt cx="7777080" cy="1294920"/>
          </a:xfrm>
        </p:grpSpPr>
        <p:sp>
          <p:nvSpPr>
            <p:cNvPr id="619" name="Rectangle 4"/>
            <p:cNvSpPr/>
            <p:nvPr/>
          </p:nvSpPr>
          <p:spPr>
            <a:xfrm>
              <a:off x="826920" y="2708280"/>
              <a:ext cx="7777080" cy="431640"/>
            </a:xfrm>
            <a:prstGeom prst="rect">
              <a:avLst/>
            </a:prstGeom>
            <a:solidFill>
              <a:srgbClr val="cccc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родское насе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5"/>
            <p:cNvSpPr/>
            <p:nvPr/>
          </p:nvSpPr>
          <p:spPr>
            <a:xfrm>
              <a:off x="2122200" y="3139920"/>
              <a:ext cx="1295280" cy="863280"/>
            </a:xfrm>
            <a:prstGeom prst="rect">
              <a:avLst/>
            </a:prstGeom>
            <a:solidFill>
              <a:srgbClr val="c9e61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писанные 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ильдии купц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6"/>
            <p:cNvSpPr/>
            <p:nvPr/>
          </p:nvSpPr>
          <p:spPr>
            <a:xfrm>
              <a:off x="826920" y="3139920"/>
              <a:ext cx="1295280" cy="863280"/>
            </a:xfrm>
            <a:prstGeom prst="rect">
              <a:avLst/>
            </a:prstGeom>
            <a:solidFill>
              <a:srgbClr val="c9e61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стоящ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ород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ывате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7"/>
            <p:cNvSpPr/>
            <p:nvPr/>
          </p:nvSpPr>
          <p:spPr>
            <a:xfrm>
              <a:off x="6011640" y="3139920"/>
              <a:ext cx="1295280" cy="863280"/>
            </a:xfrm>
            <a:prstGeom prst="rect">
              <a:avLst/>
            </a:prstGeom>
            <a:solidFill>
              <a:srgbClr val="c9e61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менит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раждан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8"/>
            <p:cNvSpPr/>
            <p:nvPr/>
          </p:nvSpPr>
          <p:spPr>
            <a:xfrm>
              <a:off x="3419280" y="3139920"/>
              <a:ext cx="1295280" cy="863280"/>
            </a:xfrm>
            <a:prstGeom prst="rect">
              <a:avLst/>
            </a:prstGeom>
            <a:solidFill>
              <a:srgbClr val="c9e61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остоявш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 цеха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емеслен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9"/>
            <p:cNvSpPr/>
            <p:nvPr/>
          </p:nvSpPr>
          <p:spPr>
            <a:xfrm>
              <a:off x="4714560" y="3139920"/>
              <a:ext cx="1295280" cy="863280"/>
            </a:xfrm>
            <a:prstGeom prst="rect">
              <a:avLst/>
            </a:prstGeom>
            <a:solidFill>
              <a:srgbClr val="c9e61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ногородние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ностран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упц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0"/>
            <p:cNvSpPr/>
            <p:nvPr/>
          </p:nvSpPr>
          <p:spPr>
            <a:xfrm>
              <a:off x="7306920" y="3139920"/>
              <a:ext cx="1295280" cy="863280"/>
            </a:xfrm>
            <a:prstGeom prst="rect">
              <a:avLst/>
            </a:prstGeom>
            <a:solidFill>
              <a:srgbClr val="c9e61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че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садско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сел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ловно- правовые преобразования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3419640" y="1844640"/>
            <a:ext cx="2304720" cy="432000"/>
          </a:xfrm>
          <a:prstGeom prst="rect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сть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468360" y="2492280"/>
            <a:ext cx="2592360" cy="432000"/>
          </a:xfrm>
          <a:prstGeom prst="rect">
            <a:avLst/>
          </a:prstGeom>
          <a:solidFill>
            <a:srgbClr val="accc3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Государ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396720" y="3213000"/>
            <a:ext cx="2832120" cy="43200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Сельское положение 178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3132000" y="3213000"/>
            <a:ext cx="21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396720" y="3860640"/>
            <a:ext cx="4792680" cy="100836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и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ли право на защиту в суд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ное владение {не распоряжение) земля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ная собственность в движимом имущест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395280" y="5157720"/>
            <a:ext cx="8278920" cy="122400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, 2,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ли права нанимать раб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учать своих детей (крепостные с разрешения помещи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иматься мелкой торговлей и кустарными промысл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наследования,  распоряжения имуществом для крестьян были огранич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364000" y="3213000"/>
            <a:ext cx="3340440" cy="165744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лежали суду помещика (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головным делам – государственн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ду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ущественные права ограничива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сь необходимостью получ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решения от помещ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0"/>
          <p:cNvSpPr/>
          <p:nvPr/>
        </p:nvSpPr>
        <p:spPr>
          <a:xfrm flipH="1">
            <a:off x="3205080" y="3429000"/>
            <a:ext cx="503280" cy="1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1"/>
          <p:cNvSpPr/>
          <p:nvPr/>
        </p:nvSpPr>
        <p:spPr>
          <a:xfrm flipV="1">
            <a:off x="4788000" y="3429000"/>
            <a:ext cx="581040" cy="1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2"/>
          <p:cNvSpPr/>
          <p:nvPr/>
        </p:nvSpPr>
        <p:spPr>
          <a:xfrm>
            <a:off x="1187280" y="3645000"/>
            <a:ext cx="0" cy="215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3"/>
          <p:cNvSpPr/>
          <p:nvPr/>
        </p:nvSpPr>
        <p:spPr>
          <a:xfrm>
            <a:off x="3276720" y="2492280"/>
            <a:ext cx="2592360" cy="432000"/>
          </a:xfrm>
          <a:prstGeom prst="rect">
            <a:avLst/>
          </a:prstGeom>
          <a:solidFill>
            <a:srgbClr val="accc3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вобод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4"/>
          <p:cNvSpPr/>
          <p:nvPr/>
        </p:nvSpPr>
        <p:spPr>
          <a:xfrm>
            <a:off x="6156360" y="2492280"/>
            <a:ext cx="2592360" cy="432000"/>
          </a:xfrm>
          <a:prstGeom prst="rect">
            <a:avLst/>
          </a:prstGeom>
          <a:solidFill>
            <a:srgbClr val="accc3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Крепост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5"/>
          <p:cNvSpPr/>
          <p:nvPr/>
        </p:nvSpPr>
        <p:spPr>
          <a:xfrm>
            <a:off x="4500720" y="3645000"/>
            <a:ext cx="0" cy="215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6"/>
          <p:cNvSpPr/>
          <p:nvPr/>
        </p:nvSpPr>
        <p:spPr>
          <a:xfrm>
            <a:off x="1187280" y="4869000"/>
            <a:ext cx="0" cy="28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7"/>
          <p:cNvSpPr/>
          <p:nvPr/>
        </p:nvSpPr>
        <p:spPr>
          <a:xfrm>
            <a:off x="6948360" y="4869000"/>
            <a:ext cx="0" cy="28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057040" y="4652640"/>
            <a:ext cx="69786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7. Развитие государственной системы и права российской империи в первой половин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енный стро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ь – самодержавный неограниченный мона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й совет (1810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итет министров ( 1802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ственная императорская канцеля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стерство д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стное управл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ное управление существовало на основании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чреждения о губерниях 1775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убер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300 - 400 тысяч человек мужского п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ез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20 -30 тысяч  человек мужского п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32000" y="5284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тизация российского законодательства в первой половин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XIX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дачи кодификации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должны строиться на «непоколебимых основаниях прав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должны определять основы государственного строя (структуру и компетенцию государственных органов, права и обязанности подданны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должны определять основы судопроизводства и судоустро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должны быть расположены по строгой 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д законов 1832 г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д законов 1832 года состоял из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8 раздел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государственные зак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нтральные, местные и устав государственной служ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правительственных с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о состоя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гражданские и меже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вы государственного благоустр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вы благочи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уголов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332000" y="487080"/>
            <a:ext cx="7632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 преступлений по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ложению о наказаниях уголовных и исправительных (1845 г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ступления против государств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стания, измена, посягательства на жизнь царя и его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ступления против рели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ступления против порядка управл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лоупотребление властью, разглашение служебных тайн, подделка документо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ступления против личност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бийства, нанесения увечий, ран, истязан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мущественные преступл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владение чужим недвижимым имуществом, грабеж, разбой, воровство, поджог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ступления против семь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сильственный или обманный брак, прелюбодеяние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голов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тная казнь, ссылка на каторгу и поселение в Сибирь, сопровождались лишением всех прав состо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справительны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ишение всех особенных прав и преимуществ и ссылка на жительство в Сибирь или другие губернии, арест, выговор, замечание, внушение или денежное взыск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1332000" y="487080"/>
            <a:ext cx="7632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 наказаний п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ожению о наказаниях уголовных и исправительных (1845 г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165040" y="558936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8. Государство и право Российской империи в период перехода к буржуазной монархии (вторая пол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057040" y="463680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2. Государство и право Древней Руси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 проведения буржуазных реформ второй половин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торой полови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в России продолжали развиваться капиталистические отно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постное право сдерживало дальнейшее развитие экономики и промышл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ые противоречия вели к усилению крестьянского дви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ажение России в Крымской войне, показавшее всю глубину отставания России от буржуазной Европы, нанесло еще один удар по феодально-крепостническому стр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стьянская реформа 1861 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еление землей осуществлялось по добровольному соглашению помещика и крестья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я земля в 34 губерниях делилась на 3 категории: нечерноземная, черноземная и степна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рные вопросы решались с привлечением мирового посре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еннообязанное состояние могло быть прекращено по истечении девятилетнего срока с момента выпуска манифес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83 г. положение потеряло силу для основной массы кресть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63 и 1866 гг. положения реформы были распространены на удельных и государственных крестьян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редитования реформы были образованы Крестьянский и Дворянский ба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акты судебной реформ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64 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е судебных устано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в уголовного судопроизво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в гражданского судопроизво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в о наказаниях, налагаемых мировыми судь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ы судоустройства и судопроизводст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еление суда от админ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четкой системы судебных инста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еление предварительного следствия от судеб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меняемость судей и следо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всесословного с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енство всех перед су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присяжных засед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прокурорского надз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165040" y="4581360"/>
            <a:ext cx="6978600" cy="188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ема 9. Российская история в первые десятилетия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века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опытка установления парламентской монархии (1900 – февраль 1917 гг.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ый строй России в начал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лица, проживавшие на территории России, делились 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ных обывателей (коренных граждан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родцев (кочевые народы и пр.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стран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ные обыватели делились на четыре сословия: дворяне, духовенство, городские обыватели, сельские обыв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ыпинская аграрная рефор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новные направления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шение крестьянской общины и закрепление за крестьянами земли в частную собств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ление крестьян на восточные окраины России с целью ослабить земельный «голод» в центральных губер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тоги рефор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роизводительных сил в дерев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зация земледелия и рост его интенсифик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иление дифференциации крестьянст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ение из общины четверти хозяй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в государственном строе России в период революции 1905-1907 г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е Государственной думы ( февраль 190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орма Государственного 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зднение Комитета министров, создание Совета министров ( 1906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е Совета государственной обороны (1905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е военно-полевых судов (190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права в 1905 – февраль 1917 г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й источник права – зак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странству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коны делились 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бщ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ействовавшие на территории всего государ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ест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ействовавшие на определенной части государ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собен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ействовавшие в отношении определенной категории д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енный аппарат в годы первой мировой вой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деление Совета министров чрезвычайными полномочиями (1914 г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илитаризация экономики Росс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бразование военно-промышленных комитетов во главе с Центральным военно-промышленным комитетом (1915 г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оздание особых совещаний и их комиссий на местах (1915 г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бразование Всероссийского земского союза и Всероссийского городского союза (1914 г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оздание Всероссийского союза земств и городов (Земгор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инистерская «чехарда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о и право Древней Рус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X –X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ыстория государства – военная демократия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I-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ее признакам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всех членов племенного союза в решении важных вопро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ая роль народного собрания как высшего органа в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общее вооружение населения ( народное ополч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165040" y="4581360"/>
            <a:ext cx="6978600" cy="188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ема 10.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Государство и право России в период буржуазно-демократической республики (февраль – октябрь      1917 г.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632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о и право России в период буржуазно-демократической республики (февраль – октябрь 1917 г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7 февра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Февральская революция. Свержение самодержавия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7 февра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 Начало деятельности Петроградского Совета рабочих и солдатских депутатов. Образование Временного комитета Государственной думы во главе с М.В.Родзя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 мар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бразование Временного правительства во главе с Г.Е.Львовым. Отречение Никола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престола в пользу своего брата великого князя Михаила Александрови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 мар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тречение, великого князя Михаила Александровича от прест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ь Временного правительст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ларированы политические и гражданские права и свободы граждан, введена свобода политических партий, политических объединений и организаций, профессиональных союз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ларировалось равенство граждан, независимо от пола, вероисповедования и национа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та подготовка к созыву Учредительного собр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ь Временного правительст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та подготовка к проведению земельной реформы, сформирована система земельных коми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верждены права фабрично-заводских комит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о Юридическое совещ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организована судеб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165040" y="558936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ема 11. Возникновение советского государства. Создание основ советского права (октябрь  1917 - 1920 гг.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револю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литическ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пад российской государственности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Экономическ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ризис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деологическ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ризис идеологии (распространение атеизма, отсутствие привлекательных для народа лозунгов) Временного Прави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убъективный фак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усиление роли большевиков в политической жизни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советской государственной систем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1835280" y="1700280"/>
            <a:ext cx="5761080" cy="36036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пуск Учредительного собр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1835280" y="2276640"/>
            <a:ext cx="5761080" cy="93636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российский съезд Советов рабоч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крестьянских депута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т крестьянских депу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1835280" y="3429000"/>
            <a:ext cx="5761080" cy="36036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резвычайный съезд крестьянских депу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1835280" y="4005360"/>
            <a:ext cx="5761080" cy="36036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й Всероссийский съезд Со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68360" y="4653000"/>
            <a:ext cx="4032360" cy="86364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рание правительства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а народных комиссаров (С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9"/>
          <p:cNvSpPr/>
          <p:nvPr/>
        </p:nvSpPr>
        <p:spPr>
          <a:xfrm>
            <a:off x="4643280" y="4653000"/>
            <a:ext cx="4032360" cy="86364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е Высшего 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одного Хозяйства (ВСН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1"/>
          <p:cNvSpPr/>
          <p:nvPr/>
        </p:nvSpPr>
        <p:spPr>
          <a:xfrm>
            <a:off x="3203640" y="436572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2"/>
          <p:cNvSpPr/>
          <p:nvPr/>
        </p:nvSpPr>
        <p:spPr>
          <a:xfrm>
            <a:off x="6227640" y="436572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3"/>
          <p:cNvSpPr/>
          <p:nvPr/>
        </p:nvSpPr>
        <p:spPr>
          <a:xfrm>
            <a:off x="4716360" y="3789360"/>
            <a:ext cx="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4"/>
          <p:cNvSpPr/>
          <p:nvPr/>
        </p:nvSpPr>
        <p:spPr>
          <a:xfrm>
            <a:off x="4716360" y="3213000"/>
            <a:ext cx="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5"/>
          <p:cNvSpPr/>
          <p:nvPr/>
        </p:nvSpPr>
        <p:spPr>
          <a:xfrm>
            <a:off x="4716360" y="2060640"/>
            <a:ext cx="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ое государственное устройств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3"/>
          <p:cNvSpPr/>
          <p:nvPr/>
        </p:nvSpPr>
        <p:spPr>
          <a:xfrm>
            <a:off x="1835280" y="1700280"/>
            <a:ext cx="5761080" cy="36036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съезд Со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396720" y="2349360"/>
            <a:ext cx="4032360" cy="180036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российский Центр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ительный Комит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ЦИК) - высший орг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сти в стране: президиу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ы, коми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395280" y="4292640"/>
            <a:ext cx="4032360" cy="108108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крет ВЦИК от июня 1918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оздание волос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ельских комитетов бедно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4572000" y="2349360"/>
            <a:ext cx="4032360" cy="302436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кларация прав трудящего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эксплуатируемого народ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ые по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ус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е предост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висимости Финля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амоопределения Арм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7"/>
          <p:cNvSpPr/>
          <p:nvPr/>
        </p:nvSpPr>
        <p:spPr>
          <a:xfrm>
            <a:off x="3132000" y="206208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8"/>
          <p:cNvSpPr/>
          <p:nvPr/>
        </p:nvSpPr>
        <p:spPr>
          <a:xfrm>
            <a:off x="6156360" y="206208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0"/>
          <p:cNvSpPr/>
          <p:nvPr/>
        </p:nvSpPr>
        <p:spPr>
          <a:xfrm>
            <a:off x="395280" y="5516640"/>
            <a:ext cx="4032360" cy="72072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крет СН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и ( формы) советского пра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ормативные ак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(в том числе конституцион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законные а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законные акты принимались наркоматами, местными Советами, общественными организациями, -судами 2-ой инста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революционные нормы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тивные акты (использовались частич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ы обычая (сохранялис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авосознание трудящихся м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черты советского законодательст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енность законодательных а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органов, принимающих подзаконные акты: общественные организации, суды 2-ой инстан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фор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нициз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действия норм права во времени, в пространстве и по кругу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Древнерусского государст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уке существует два основных подхода к вопросу о происхождении государ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ff"/>
                </a:solidFill>
                <a:latin typeface="Arial"/>
              </a:rPr>
              <a:t>государство создается искусственно, чьей-то волей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 поэтому процесс его формирования не обусловлен материальными отношениями и факторами. В частности, государство может возникнуть в результате насилия, согласно воле завоевателей. В таком случае оно представляет силу, навязанную обществу извн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ff"/>
                </a:solidFill>
                <a:latin typeface="Arial"/>
              </a:rPr>
              <a:t>государство возникает естественно, в ходе исторических процессов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оциально-экономическое развитие превращает общественную власть, которой располагали вожди и старейшины в первобытном обществе, в публичную, т.е. государственную власт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системы репрессивных орган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1835280" y="1628640"/>
            <a:ext cx="5761080" cy="43200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креты о суде № 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324000" y="2963880"/>
            <a:ext cx="2016000" cy="237636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ы: ускорен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допроизводств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о вынес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шей мер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ите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азнач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каз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324000" y="5627520"/>
            <a:ext cx="8351640" cy="64944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т 1920 г. — новое положение о ревтрибуналах упразднило специа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ственные комиссии; возложив их функций на органы ВЧК и особые отде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324000" y="2276640"/>
            <a:ext cx="8351640" cy="43164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волюционные трибуналы создаются на территории всей стра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2513160" y="2963880"/>
            <a:ext cx="1944720" cy="237636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ае 1918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втрибу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Кассацион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дел при ВЦ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8"/>
          <p:cNvSpPr/>
          <p:nvPr/>
        </p:nvSpPr>
        <p:spPr>
          <a:xfrm>
            <a:off x="6732720" y="2963880"/>
            <a:ext cx="1944720" cy="237636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вали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е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ибунал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шего зве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оен. трибун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онтов, округ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пусов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виз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4643280" y="2963880"/>
            <a:ext cx="1944720" cy="237636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ктябре 1919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ЧК созда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волюцион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ибу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0"/>
          <p:cNvSpPr/>
          <p:nvPr/>
        </p:nvSpPr>
        <p:spPr>
          <a:xfrm>
            <a:off x="1332000" y="534024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1"/>
          <p:cNvSpPr/>
          <p:nvPr/>
        </p:nvSpPr>
        <p:spPr>
          <a:xfrm>
            <a:off x="3419640" y="534024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2"/>
          <p:cNvSpPr/>
          <p:nvPr/>
        </p:nvSpPr>
        <p:spPr>
          <a:xfrm>
            <a:off x="5651640" y="5340240"/>
            <a:ext cx="0" cy="24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3"/>
          <p:cNvSpPr/>
          <p:nvPr/>
        </p:nvSpPr>
        <p:spPr>
          <a:xfrm>
            <a:off x="7667640" y="5340240"/>
            <a:ext cx="0" cy="24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4"/>
          <p:cNvSpPr/>
          <p:nvPr/>
        </p:nvSpPr>
        <p:spPr>
          <a:xfrm>
            <a:off x="1347840" y="2673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5"/>
          <p:cNvSpPr/>
          <p:nvPr/>
        </p:nvSpPr>
        <p:spPr>
          <a:xfrm>
            <a:off x="3435480" y="2673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6"/>
          <p:cNvSpPr/>
          <p:nvPr/>
        </p:nvSpPr>
        <p:spPr>
          <a:xfrm>
            <a:off x="5580000" y="270828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7"/>
          <p:cNvSpPr/>
          <p:nvPr/>
        </p:nvSpPr>
        <p:spPr>
          <a:xfrm>
            <a:off x="7740720" y="270828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8"/>
          <p:cNvSpPr/>
          <p:nvPr/>
        </p:nvSpPr>
        <p:spPr>
          <a:xfrm>
            <a:off x="4500720" y="2060640"/>
            <a:ext cx="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системы репрессивных орган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324000" y="3789360"/>
            <a:ext cx="2462040" cy="50328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граничные Ч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324000" y="2852640"/>
            <a:ext cx="8351640" cy="71928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тябрь 1918 г. – ВЦИК утверж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оложение о ВЧК и местных Ч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6084720" y="3789360"/>
            <a:ext cx="2590920" cy="50328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К в армии и фло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3276720" y="3789360"/>
            <a:ext cx="2374920" cy="50328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портные Ч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324000" y="2205000"/>
            <a:ext cx="8351640" cy="43200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марта 1918 г. началось формирование местных органов ВЧ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324000" y="4508640"/>
            <a:ext cx="8351640" cy="43164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. 1921 г. – нач. 1922 г. ВЧК преобразовывается в Г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"/>
          <p:cNvSpPr/>
          <p:nvPr/>
        </p:nvSpPr>
        <p:spPr>
          <a:xfrm>
            <a:off x="4500720" y="2637000"/>
            <a:ext cx="0" cy="215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0"/>
          <p:cNvSpPr/>
          <p:nvPr/>
        </p:nvSpPr>
        <p:spPr>
          <a:xfrm>
            <a:off x="1476360" y="3573360"/>
            <a:ext cx="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1"/>
          <p:cNvSpPr/>
          <p:nvPr/>
        </p:nvSpPr>
        <p:spPr>
          <a:xfrm>
            <a:off x="1476360" y="4292640"/>
            <a:ext cx="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2"/>
          <p:cNvSpPr/>
          <p:nvPr/>
        </p:nvSpPr>
        <p:spPr>
          <a:xfrm>
            <a:off x="4500720" y="3573360"/>
            <a:ext cx="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3"/>
          <p:cNvSpPr/>
          <p:nvPr/>
        </p:nvSpPr>
        <p:spPr>
          <a:xfrm>
            <a:off x="4500720" y="4292640"/>
            <a:ext cx="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4"/>
          <p:cNvSpPr/>
          <p:nvPr/>
        </p:nvSpPr>
        <p:spPr>
          <a:xfrm>
            <a:off x="7308720" y="3573360"/>
            <a:ext cx="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5"/>
          <p:cNvSpPr/>
          <p:nvPr/>
        </p:nvSpPr>
        <p:spPr>
          <a:xfrm>
            <a:off x="7308720" y="4292640"/>
            <a:ext cx="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системы репрессивных орган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"/>
          <p:cNvSpPr/>
          <p:nvPr/>
        </p:nvSpPr>
        <p:spPr>
          <a:xfrm>
            <a:off x="324000" y="3068640"/>
            <a:ext cx="3311280" cy="122400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ое управление рабоч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стьянской  мил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КВД РСФСР возглави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у органов мил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4"/>
          <p:cNvSpPr/>
          <p:nvPr/>
        </p:nvSpPr>
        <p:spPr>
          <a:xfrm>
            <a:off x="6429240" y="3056040"/>
            <a:ext cx="2389320" cy="123480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ва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я мил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3708360" y="3068640"/>
            <a:ext cx="2629080" cy="122400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о центр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уголов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ы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6"/>
          <p:cNvSpPr/>
          <p:nvPr/>
        </p:nvSpPr>
        <p:spPr>
          <a:xfrm>
            <a:off x="317520" y="2492280"/>
            <a:ext cx="8502480" cy="43200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ктябре 1918 г. началась подготовка по образованию органов мил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324000" y="4508640"/>
            <a:ext cx="8423280" cy="72072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юне 1920 г. ВЦИК утвердил Положение о рабоче-крестья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иции, завершив создание системы органов мили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8"/>
          <p:cNvSpPr/>
          <p:nvPr/>
        </p:nvSpPr>
        <p:spPr>
          <a:xfrm>
            <a:off x="324000" y="5300640"/>
            <a:ext cx="1295280" cy="64944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одска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узд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9"/>
          <p:cNvSpPr/>
          <p:nvPr/>
        </p:nvSpPr>
        <p:spPr>
          <a:xfrm>
            <a:off x="1692360" y="5300640"/>
            <a:ext cx="1657440" cy="64944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мышле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л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0"/>
          <p:cNvSpPr/>
          <p:nvPr/>
        </p:nvSpPr>
        <p:spPr>
          <a:xfrm>
            <a:off x="5319720" y="5300640"/>
            <a:ext cx="1052640" cy="64944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л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1"/>
          <p:cNvSpPr/>
          <p:nvPr/>
        </p:nvSpPr>
        <p:spPr>
          <a:xfrm>
            <a:off x="6443640" y="5300640"/>
            <a:ext cx="2305080" cy="64944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ыск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л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2"/>
          <p:cNvSpPr/>
          <p:nvPr/>
        </p:nvSpPr>
        <p:spPr>
          <a:xfrm>
            <a:off x="3403440" y="5300640"/>
            <a:ext cx="1872000" cy="64944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елезнодоро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л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итуция РСФСР 10 июня 1918 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остояла из шести разде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кларация прав трудящегося и эксплуатируемого народ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е положения Конституции РСФС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кция Советской власти (организация Советской власти в центре и на места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е и пассивное избирательное пра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ное пра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гербе и флаге РСФ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советского госаппарата в период гражданской вой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нденция к усилению централизации в управлении стра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ицание принципа разделения властей и отсутствие четкого разграничения полномочий в Конституции РСФСР между высшими государственными орга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власти в руках С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дение роли съездов Советов и ВЦ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Совета Рабоче-крестьянской обороны ( позже Совет труда и оборо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057040" y="4637160"/>
            <a:ext cx="6978600" cy="19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12. Советское государство и право в годы новой экономической политики (1921 - 1928 гг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 перестройки государственного аппара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тройка государственного аппарата была вызв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ом от старых дог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м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м советских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организация советского госаппарата в условиях нэп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ена компетенция ВЦИК, увеличен его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граничена компетенция СНК, СТО, Малого совнарк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а Государственная  общеплановая комиссия (Госпл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квидирована система «главкиз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ЧК преобразована в ГПУ (Государственное политическое управ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КИ объединена с ЦКК ЦК РКП(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организация юстиции и правоохранительных органо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22 г. —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Положение о прокурорском надз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Функции прокурат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надзора от имени государства за законностью действия всех органов власти, хозяйственных, общественных и частных организаций и частных л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деятельностью следственных органов и деятельностью ГП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ание обвинения в су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правильностью содержания заключенных под страж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организация юстиции и правоохранительных органо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22 г. —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ложение об адвок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Функции адвокат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юридической помощи граждан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интересов граждан в су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нская теория возникновения Древнерусского государст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В науке  сформировалась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орманская тео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исхождения государства у восточных славян. Ее авторами стали немецкие ученые, приглашенные в Российскую академию наук: Байер ( возглавлял кафедру истории), Миллер и Шлец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у норманской теории был положен рассказ летописи «Повесть временных лет» о «призвании варягов и основании династии Рюрикович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организация юстиции и правоохранительных органо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22 г. -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ложение о нотариате и арбитражных комисс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Функции нотари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я сделок с недвижимостью и другим имущ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Функции арбитражных комисс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ние имущественных споров, касающихся государственных органов и хозяйственных организ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организация юстиции и правоохранительных органо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38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22 г. -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Положение о судоустройстве РСФ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оздание единой судебной сис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3387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родные 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5560" indent="-338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ный суд в составе постоянного народного судьи и народных заседателей;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5560" indent="-338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бернский су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5560" indent="-338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ховный суд РСФСР и его колле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3387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ециальные суды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енные трибуналы, военно-транспортные трибуналы, арбитражные комисси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ние СССР (1922 г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ичи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 объединения экономических ресурсов респуб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независимости республик и возможность успешно решать внешнеполитические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дпосылки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в республиках советской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енная собственность на средства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дификация законодательств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920-е годы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фикация законодательства в 20-е годы вызв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м за годы Советской власти огромного количества нормативных актов, многие из которых противоречили друг друг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ованием становления единой революционной законности и единообразного применения законов на всей территории стра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ю урегулировать те общественные отношения, которые в предшествующий период времени регулировались либо революционным правосознанием, либо дооктябрьскими правовыми а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итуция СССР 1924 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екларация об образовании С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ывалось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ый характер национальной политики советского государ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ины объединения советских республ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ы их объединения — добровольность и равнопра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итуция СССР 1924 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говор об образований С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предметах ведения верховных органов власти СС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суверенных правах союзных' республик и о союзном гражд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съезде Советов СС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Центральном Исполнительном Комитете СС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Президиуме ЦИК СС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Совете Народных Комиссаров СС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Верховном суде СС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 объединенном государственном политическом управ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союзных республи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гербе, флаге, столице СС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итуция СССР 1924 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онституции в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сключительном ведении Союза находил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е сношения и торгов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вопросов о войне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и руководство вооруженными сил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е руководство и планирование экономики и бюдж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основ законод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административно-командной системы в СССР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редоточение государственной власти в руках парт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правящей элитой насилия и идеологическая порабощенность насел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ульт личности И.В. Сталин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черты сталинизма (разновидности тоталитаризма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щивание партийного и государственного аппар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фикация общественной жизни, формирование авторитарного способа мышления, монополия партии на средства массовой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епление единоличной власти Ста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абсолютной зависимости человека от государства и его карательных органов (массовые репрессии, уничтожение гражданских пра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епление репрессивного аппарата (учреждения Особых совещаний, создание ГУЛАГ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системы принудительного труда осужденных и спецпереселен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ние системы несудебных органов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враль 1923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чреждение судебной коллегии ОГПУ (рассмотрение дел о диверсиях, вредительстве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ябрь 1934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разование при НКВД Особого совещания-органа, который мы в административном (внесудебном) порядке применять к «лицам, признаваемым общественно опасными»,ссылку, высылку и 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34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здание комиссии НКВД СССР и Прокуратуры СССР по следственным делам («двоек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нская теория возникновения Древнерусского государст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8560" y="1916280"/>
            <a:ext cx="8785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норманской теории различ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 исследователи считают известия летописи о призвании варягов достовер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е – полностью отрицают возможность видеть в этих известиях отражение реальных фа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онирование репрессивной маши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овое раскулачивание крестьянства в условиях форсированной коллектив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рель 1933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становления СНК СССР «Об организации трудовых посел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кабрь 1934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становление ВЦИК и СНК СССР «о порядке ведения дел, о подготовке и совершении террористических актов» (короткие сроки расследования, невозможность обжал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34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становление ЦИК СССР «О рассмотрении дел о преступлениях, расследуемых НКВД СССР и его местными орган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й 1939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процесс по делу высшего командирования армии (Якир, Блюхер, Тухачевский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057040" y="4636800"/>
            <a:ext cx="6978600" cy="18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13. Государство и право в условиях становления и укрепления командно-административной системы ( 1929 – 1941 гг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итуц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CP 1936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ественное устройст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сударственное устройст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сшие органы государственной власти ССС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сшие органы государственной власти союзных республи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ы государственного управления ССС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ы государственного управления союзных республи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сшие органы государственной власти Автономных республи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стные органы государственной вла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уд и прокурату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сновные права и обязанности гражда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збирательная систем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ерб, флаг, столиц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рядок изменения Конститу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63272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итуц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CCP 1936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ы конституционного строя ССС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 политической системы СССР .— Советы депутатов трудя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 союзных республик свободного выхода из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ое гражданство для граждан всех союзных республ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ование двух форм собственности на средства производств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а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на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хозно-кооперати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 в СССР является обязанностью каждого способного к труду гражда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ение церкви от государства и школы от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нность всех граждан выполнять Конституцию СССР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63272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итуц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CP 1936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шест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общее и равноправное избирательное 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труд и отд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образ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бода слова, печати, собраний н митингов, шествий и демонст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икосновенность личности и жилища, тайна перепи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путатская неприкосновен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зависимость суд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венство по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венство всех рас и националь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общая воинская обязан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рядок изменения Конститу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тенденции развития советского права в 1930-е год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на развитие права объективных факторов (складывание административно-командной сист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ая трактовка понятий «закон» и «законодатель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ятие постановлений правительства совместно с ЦК ВКП(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жение гражданских прав для основной массы населения, нарушение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ктуализация»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057040" y="4637160"/>
            <a:ext cx="6978600" cy="19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Темы 14 и 15. Советское государство и право в период Великой отечественной войны в послевоенные годы ( июнь 1941 – начало 1950-х гг.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в государственной системе ССС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юль 1941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здание Государственного комитета об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лето 1941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здание Совета по делам эвак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ентябрь – ноябрь 1941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бразование новых нарком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декабрь 1941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– Преобразование Совета по делам эвакуации в  Управления по делам эвак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оябрь 1942 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Создание Чрезвычайной государственной коми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юль 1943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 Вводится деление военнослужащих на рядовой, сержантский,  офицерский состав и генералитет, вводятся новые знаки различ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63272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в правовой системе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41 – 1945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оловное прав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прель 1911 г.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Для специальных субъектов уголовного права («фашистских преступников и их пособников») вводятся особые меры наказания — смертная казнь через повешение и каторжны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юль 1941 г.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каз Президиума Верховного Совета СССР «Об ответственности 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остранение в военное время ложных слухов, возбуждающих тревогу среди насел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январь 1942 г.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головное наказание за уклонение от воин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декабрь 1942 г.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ширяется состав такого преступления, как спекуляция (в нее включается продажа махорки и самогона в больших количеств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юнь 1943 г. 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з об ответственности за хищение горю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оябрь 1943 г.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каз «Об ответственности за разглашение государственной тайны или за утрату документов, содержащих государственную тайн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63272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в правовой системе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41 – 1945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Трудовое прав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юнь 1941 г.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ведена трудовая пови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декабрь 1941 г.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головная ответственность за самовольный уход с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февраль 1943 г.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каз «О мобилизации всего трудоспособного селения для работ в производстве и строительств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прель 1942 г.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становлением СНК СССР и ЦК ВКП(б) был повышен обязательный минимум трудодней для колхозников (как взрослых, так и подростк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прель 1942 г.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становление о мобилизации горожан на сельскохозяйственные работы в колхозы, совхозы  и МТ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вгуст 1943 г.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становление СНК СССР и ЦК. ВКП(б) «О неотложных мерах по восстановлению хозяйства в районах, освобожденных от немецкой оккуп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Organization Chart 6"/>
          <p:cNvGrpSpPr/>
          <p:nvPr/>
        </p:nvGrpSpPr>
        <p:grpSpPr>
          <a:xfrm>
            <a:off x="174600" y="2752200"/>
            <a:ext cx="8758080" cy="1781640"/>
            <a:chOff x="174600" y="2752200"/>
            <a:chExt cx="8758080" cy="1781640"/>
          </a:xfrm>
        </p:grpSpPr>
        <p:cxnSp>
          <p:nvCxnSpPr>
            <p:cNvPr id="276" name="_s1028"/>
            <p:cNvCxnSpPr>
              <a:stCxn id="277" idx="0"/>
              <a:endCxn id="278" idx="2"/>
            </p:cNvCxnSpPr>
            <p:nvPr/>
          </p:nvCxnSpPr>
          <p:spPr>
            <a:xfrm flipV="1" rot="16200000">
              <a:off x="5967360" y="2000880"/>
              <a:ext cx="166320" cy="2991960"/>
            </a:xfrm>
            <a:prstGeom prst="bentConnector3">
              <a:avLst>
                <a:gd name="adj1" fmla="val 49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29"/>
            <p:cNvCxnSpPr>
              <a:stCxn id="280" idx="0"/>
              <a:endCxn id="278" idx="2"/>
            </p:cNvCxnSpPr>
            <p:nvPr/>
          </p:nvCxnSpPr>
          <p:spPr>
            <a:xfrm flipV="1">
              <a:off x="4554720" y="3413880"/>
              <a:ext cx="1800" cy="16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_s1030"/>
            <p:cNvCxnSpPr>
              <a:stCxn id="282" idx="0"/>
              <a:endCxn id="278" idx="2"/>
            </p:cNvCxnSpPr>
            <p:nvPr/>
          </p:nvCxnSpPr>
          <p:spPr>
            <a:xfrm flipH="1" flipV="1" rot="5400000">
              <a:off x="2974680" y="1999440"/>
              <a:ext cx="166320" cy="2995200"/>
            </a:xfrm>
            <a:prstGeom prst="bentConnector3">
              <a:avLst>
                <a:gd name="adj1" fmla="val 49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1031"/>
            <p:cNvSpPr/>
            <p:nvPr/>
          </p:nvSpPr>
          <p:spPr>
            <a:xfrm>
              <a:off x="3375720" y="2752200"/>
              <a:ext cx="2355840" cy="66312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сс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лассообразов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032"/>
            <p:cNvSpPr/>
            <p:nvPr/>
          </p:nvSpPr>
          <p:spPr>
            <a:xfrm>
              <a:off x="174600" y="3578760"/>
              <a:ext cx="2772360" cy="95508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Формирование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племенных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союз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3"/>
            <p:cNvSpPr/>
            <p:nvPr/>
          </p:nvSpPr>
          <p:spPr>
            <a:xfrm>
              <a:off x="3167640" y="3578760"/>
              <a:ext cx="2772000" cy="95508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Распад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большой семь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034"/>
            <p:cNvSpPr/>
            <p:nvPr/>
          </p:nvSpPr>
          <p:spPr>
            <a:xfrm>
              <a:off x="6160320" y="3578760"/>
              <a:ext cx="2772360" cy="95508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ерерастание родов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общины в сельску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15"/>
          <p:cNvSpPr/>
          <p:nvPr/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древнерусского государств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государственно - политической системы в конце 1940 – начале 1950-х г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именование Рабоче-Крестьянской Красной Армии в Советские Вооруженные С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ние Совета Народных Комиссаров СССР в Совет Министров С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комиссии законодательных предположений Верховного 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а отраслевого принципа управления территориальным, создание совнархо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зднение особых трибуналов, усиление роли проку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Комитета государственной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в прав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онец 1940 – начало 1950-х гг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ражданское право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ширение полномочий собственников, усиление роли договоров в хозяйственной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емейное право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иление государственной регламентации жизни семьи: запрещение браков с иностранцами, усложнение раз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рудовое право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иквидация последствий военного времени, внимание к поощрениям рабо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емельное право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иление внимания к охране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головное право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витие норм особенной ч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057040" y="4636800"/>
            <a:ext cx="6978600" cy="18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Тема 16. Советское государство и право в период либерализации социалистического строя 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(1953 - 1964 гг.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организация структуры госаппара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крупнение министерств и преобразование комитетов в министер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е четырехзвенной структуры органов управления: главк – управление – отдел – сект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зднение многих структурных звеньев министерств, трестов, конт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численности аппар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а утраченного принципа управления территориаль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совнархоз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формы в сфере сельского хозяйст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квидация МТС, передача сельхозтехники в собственность колхозов, введение об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на обязательных поставок колхозами сельхоз продукции, замена их госзакуп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закупочных цен на сельхоз продук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епление колхозных хозяйств, укрепление районный парторганиз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тройка системы местных органов власти, утверждение положения о местных сове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32000" y="507600"/>
            <a:ext cx="7632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ое государство и право в период либерализации социалистического стро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953 - 1964 гг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кратизация государственной жизни. «Оттепел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роли советов, активизация их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мотр полномочий и объема деятельности Верховного суда С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а участковой системы народных судов народным судом города (райо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057040" y="4637160"/>
            <a:ext cx="6978600" cy="19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Тема 17. Нарастание кризиса социалистической государственности и права 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( середина 60-х годов – август 1991 г.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632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конституционного законодательств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итуция СССР 1977 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итуция СССР 1977 г. состоит из 9 раздел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глава – 174 статьи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сновы общественного строя и полити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сударство и лич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ционально-государственное устройст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веты народных депута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сшие органы власти и управ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сновы построения органов государственной власти и управления в союзных республика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авосудие, арбитраж, прокурорский надз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ерб, флаг и столиц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ействие Конституции и порядок ее примен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358920" y="2133720"/>
            <a:ext cx="431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ся власть принадлежит народ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снова политической системы – Сове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сударственный суверенит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ественное самоуправл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Широкое международное сотрудничест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аво союзных республик выхода из ССС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827600" y="2133720"/>
            <a:ext cx="431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вноправие всех гражда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диное гражданство для граждан всех союзных республи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есклассовое коммунистическое общест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иболее полное удовлетворение растущих материальных и духовных потребностей челове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title"/>
          </p:nvPr>
        </p:nvSpPr>
        <p:spPr>
          <a:xfrm>
            <a:off x="1332000" y="549360"/>
            <a:ext cx="763272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итуция СССР 1977г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ы конституционного стро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332000" y="54936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итуция СССР 1977 г.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шеств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сенародное обсуждение и референду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вые гражданские пра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аво на обжалование действий должностных лиц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аво на судебную защиту от посягательства на честь и достоинство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аво на критику действий государственных и общественных организаций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аво на охрану здоровь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аво на жилищ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аво на пользование достижениями культур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аво на свободу творче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храна земли, водных ресурсов, растительности и животного мир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Organization Chart 30"/>
          <p:cNvGrpSpPr/>
          <p:nvPr/>
        </p:nvGrpSpPr>
        <p:grpSpPr>
          <a:xfrm>
            <a:off x="900000" y="2594880"/>
            <a:ext cx="7487640" cy="2671200"/>
            <a:chOff x="900000" y="2594880"/>
            <a:chExt cx="7487640" cy="2671200"/>
          </a:xfrm>
        </p:grpSpPr>
        <p:cxnSp>
          <p:nvCxnSpPr>
            <p:cNvPr id="285" name="_s2052"/>
            <p:cNvCxnSpPr>
              <a:stCxn id="286" idx="0"/>
              <a:endCxn id="287" idx="2"/>
            </p:cNvCxnSpPr>
            <p:nvPr/>
          </p:nvCxnSpPr>
          <p:spPr>
            <a:xfrm flipV="1" rot="16200000">
              <a:off x="6101640" y="3771720"/>
              <a:ext cx="265320" cy="1590120"/>
            </a:xfrm>
            <a:prstGeom prst="bentConnector3">
              <a:avLst>
                <a:gd name="adj1" fmla="val 49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8" name="_s2053"/>
            <p:cNvCxnSpPr>
              <a:stCxn id="289" idx="0"/>
              <a:endCxn id="287" idx="2"/>
            </p:cNvCxnSpPr>
            <p:nvPr/>
          </p:nvCxnSpPr>
          <p:spPr>
            <a:xfrm flipH="1" flipV="1" rot="5400000">
              <a:off x="4512960" y="3772080"/>
              <a:ext cx="265320" cy="1589400"/>
            </a:xfrm>
            <a:prstGeom prst="bentConnector3">
              <a:avLst>
                <a:gd name="adj1" fmla="val 49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2054"/>
            <p:cNvCxnSpPr>
              <a:stCxn id="287" idx="0"/>
              <a:endCxn id="291" idx="2"/>
            </p:cNvCxnSpPr>
            <p:nvPr/>
          </p:nvCxnSpPr>
          <p:spPr>
            <a:xfrm flipV="1" rot="16200000">
              <a:off x="4909680" y="3337200"/>
              <a:ext cx="265320" cy="794880"/>
            </a:xfrm>
            <a:prstGeom prst="bentConnector3">
              <a:avLst>
                <a:gd name="adj1" fmla="val 49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2055"/>
            <p:cNvCxnSpPr>
              <a:stCxn id="293" idx="0"/>
              <a:endCxn id="291" idx="2"/>
            </p:cNvCxnSpPr>
            <p:nvPr/>
          </p:nvCxnSpPr>
          <p:spPr>
            <a:xfrm flipH="1" flipV="1" rot="5400000">
              <a:off x="3321000" y="2542680"/>
              <a:ext cx="265320" cy="2384280"/>
            </a:xfrm>
            <a:prstGeom prst="bentConnector3">
              <a:avLst>
                <a:gd name="adj1" fmla="val 49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1" name="_s2056"/>
            <p:cNvSpPr/>
            <p:nvPr/>
          </p:nvSpPr>
          <p:spPr>
            <a:xfrm>
              <a:off x="2548440" y="2594880"/>
              <a:ext cx="4190400" cy="100764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0" rIns="648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леменные союз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оенные объедин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2057"/>
            <p:cNvSpPr/>
            <p:nvPr/>
          </p:nvSpPr>
          <p:spPr>
            <a:xfrm>
              <a:off x="900000" y="3867840"/>
              <a:ext cx="2723760" cy="56664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0" rIns="648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няз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2058"/>
            <p:cNvSpPr/>
            <p:nvPr/>
          </p:nvSpPr>
          <p:spPr>
            <a:xfrm>
              <a:off x="4078080" y="3867840"/>
              <a:ext cx="2723760" cy="56664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0" rIns="648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дружи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2059"/>
            <p:cNvSpPr/>
            <p:nvPr/>
          </p:nvSpPr>
          <p:spPr>
            <a:xfrm>
              <a:off x="2491920" y="4699800"/>
              <a:ext cx="2720880" cy="56628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0" rIns="648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«старшая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2060"/>
            <p:cNvSpPr/>
            <p:nvPr/>
          </p:nvSpPr>
          <p:spPr>
            <a:xfrm>
              <a:off x="5667480" y="4699800"/>
              <a:ext cx="2720160" cy="56628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0" rIns="648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«младшая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42"/>
          <p:cNvSpPr/>
          <p:nvPr/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древнерусского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в законодательной систем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957 г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сширяется компетенция Верховного Совета СССР. Наряду с увеличением бюджета ВС утверждал ежегодные и долгосрочные хозяйственные пл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966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Увеличивается число постоянных комиссий Верховного Совета СССР (до 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978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инят закон «О выборах в Верховный Совет СССР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979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инят закон «О порядке отзыва депутата Верховного Совета ССС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979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инят закон «О статусе народных депутатов в ССС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отворческая и кодификационная рабо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959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инят закон «О бюджетных правах Союза ССР и союзных республик». Составил основу финансового законодательства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96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инят новый Уголовный кодекс РСФС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96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ят новый Уголовно-процессуальный кодекс РСФ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96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4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инят новый Гражданский кодекс РСФСР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964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инят новый Гражданско-процессуальный кодекс РСФСР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968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иняты Основы земельного законодательства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отворческая и кодификационная рабо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969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иняты Основы законодательства о здравоохран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97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иняты Основы водного законодате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973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иняты Основы законодательства о народном образ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975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иняты Основы законодательства о недра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977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иняты Основы лесного законод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98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иняты Основы законодательства об административных правонаруш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 «перестройки»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апрель 1985 г. – 1991 г.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Экономические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эффективность административно-командной системы ( чрезмерная централизация управления экономикой, отсутствие заинтересованности, приказные методы регулирова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ешнеполитические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нденция к изоляции, война в Афганистане, технологические отставание от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утриполитические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власти в руках партийного аппарата, развал партии (коррупция), недееспособность, расцвет бюрокра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тегические цели «перестройки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нтаж командно-административной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разнообразия форм собств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саморегулирующегося хозяйственного механизма при сохранении направляющей роли государ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экономической активности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ость для окружающего ми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литическ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в гражданском, трудовом, аграрном, уголовном и процессуальном прав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юнь 1987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акон «О государственном предприятии» (расширение прав предприятий, перевод на хозрасч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ябрь 1986 г., май 1988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акон о легализации частной предпринимательской де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яде производственных и сервисных обла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т 1990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– Закон «О собственности в СССР» (вводил «собственность граждан, коллективную и государствен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рель 199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акон «Об основах экономических отношениях Союза ССР, союзных и автономных республик (разграничения полномочия Союза и республик в сфере экономики и финанс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в гражданском, трудовом, аграрном, уголовном и процессуальном прав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юнь 199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акон «О предприятиях в СССР» (перечислялись виды предприятий: индивидуальные, кооперативные, в форме акционерного или иного хозяйственного общ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тябрь 199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акон «Об общественных объединен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кабрь 199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акон «О профессиональных союза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в политической системе в период «перестройки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становление  двухуровневой системы представительных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е поста Президента С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 о департ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я  Государственного комитета по чрезвычайному положению (ГКЧП), август 199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057040" y="577188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ема 18. Становление новой российской государственности и постсоветской правовой системы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 август 1991 г. – наше время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политического развития России после распада ССС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2 ноября 1991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нятие Декларации прав и свобод человека и гражда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8 декабря 1991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дписание соглашения о создании Союза независимых государств (СН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5 декабря 1991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нятие Верховным Советом РСФСР официального  названия республики – Российская Федерация (Рос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1 марта 1992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дписание субъектами Российской Федерации  федеративного  до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Organization Chart 6"/>
          <p:cNvGrpSpPr/>
          <p:nvPr/>
        </p:nvGrpSpPr>
        <p:grpSpPr>
          <a:xfrm>
            <a:off x="826920" y="2671560"/>
            <a:ext cx="7630920" cy="3079080"/>
            <a:chOff x="826920" y="2671560"/>
            <a:chExt cx="7630920" cy="3079080"/>
          </a:xfrm>
        </p:grpSpPr>
        <p:cxnSp>
          <p:nvCxnSpPr>
            <p:cNvPr id="296" name="_s3076"/>
            <p:cNvCxnSpPr>
              <a:stCxn id="297" idx="0"/>
              <a:endCxn id="298" idx="2"/>
            </p:cNvCxnSpPr>
            <p:nvPr/>
          </p:nvCxnSpPr>
          <p:spPr>
            <a:xfrm flipV="1" rot="16200000">
              <a:off x="5669280" y="2875320"/>
              <a:ext cx="615960" cy="2671560"/>
            </a:xfrm>
            <a:prstGeom prst="bentConnector3">
              <a:avLst>
                <a:gd name="adj1" fmla="val 185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9" name="_s3077"/>
            <p:cNvCxnSpPr>
              <a:stCxn id="300" idx="0"/>
              <a:endCxn id="298" idx="2"/>
            </p:cNvCxnSpPr>
            <p:nvPr/>
          </p:nvCxnSpPr>
          <p:spPr>
            <a:xfrm flipV="1">
              <a:off x="4642200" y="3903120"/>
              <a:ext cx="3600" cy="61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3078"/>
            <p:cNvCxnSpPr>
              <a:stCxn id="302" idx="0"/>
              <a:endCxn id="298" idx="2"/>
            </p:cNvCxnSpPr>
            <p:nvPr/>
          </p:nvCxnSpPr>
          <p:spPr>
            <a:xfrm flipH="1" flipV="1" rot="5400000">
              <a:off x="2998800" y="2875320"/>
              <a:ext cx="615960" cy="2671560"/>
            </a:xfrm>
            <a:prstGeom prst="bentConnector3">
              <a:avLst>
                <a:gd name="adj1" fmla="val 185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8" name="_s3079"/>
            <p:cNvSpPr/>
            <p:nvPr/>
          </p:nvSpPr>
          <p:spPr>
            <a:xfrm>
              <a:off x="3497760" y="2671560"/>
              <a:ext cx="2289240" cy="123156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Три крупнейши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олитически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центр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_s3080"/>
            <p:cNvSpPr/>
            <p:nvPr/>
          </p:nvSpPr>
          <p:spPr>
            <a:xfrm>
              <a:off x="826920" y="4519080"/>
              <a:ext cx="2289240" cy="123156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уяб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(южная группа с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центром в Киеве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3081"/>
            <p:cNvSpPr/>
            <p:nvPr/>
          </p:nvSpPr>
          <p:spPr>
            <a:xfrm>
              <a:off x="3497760" y="4519080"/>
              <a:ext cx="2289240" cy="123156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авд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(северная группа с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центром 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овгороде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3082"/>
            <p:cNvSpPr/>
            <p:nvPr/>
          </p:nvSpPr>
          <p:spPr>
            <a:xfrm>
              <a:off x="6168600" y="4519080"/>
              <a:ext cx="2289240" cy="123156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Арта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(юго-восточна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группа с центром в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язани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древнерусского государст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политического развития России после распада ССС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1 марта 199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зменения в структуре Российской Федерации. Разграничение предметов ведения между центром и субъектами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 сентября 1993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оспуск Съезда народных депутатов и Верховного Совета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 - 4 октября 1993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гические  события в г.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2 декабря 1993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– Принятие новой Конституции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1 января 1994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Начало работы Федерального Собран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знаки правового государства(по Конституции РФ 1993 г.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разделения властей (органы законодательной, исполнительной и судебной власти самостоятель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верховенства права и закона (все граждане государства, все должностные лица, органы государственной власти должны исполнять законы, за их нарушение несут ответствен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верховенства Конституции (Конституция РФ имеет высшую юридическую силу, а законы и другие правовые акты не должны ей противоречи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независимости судебной власти (вмешательство органов государственной власти в работу судебных органов запрещено и преследуется по закон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знаки правового государства(по Конституции РФ 1993 г.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приоритета международного права (общепризнанные нормы международного права и международные договоры РФ являются частью ее правовой систем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ловек, его права и свободы – высшая ценность государства» (согласно Конституции России, человеку гарантированы личные, политические, экономические, социальные и культурные неотчуждаемые пра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тенденции развития российского права (1991 г. – наше время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ная черта – «пестрота» источ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по обновлению всего российского законод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ые кодификационные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4 г. – первая часть ГК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5 г. – Арбитражный процессуальный код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5 г. – Водный кодек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6 г. – Уголовно-исполнительный код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7 г. – Лесной кодекс РФ, Воздушный кодек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8 г. – Градостроительный кодекс РФ, Бюджетный кодекс РФ, Налоговый кодекс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e-BY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be-BY" sz="5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евская Русь – раннефеодальная монарх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аннефеодальная монарх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наиболее ранняя, исторически сложившаяся разновидность ограниченной монархии периода феодализма, при которой монарх осуществляем свою власть совместно с советом из наиболее богатых и знатных представителей формирующегося класса феод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 науки истории государства и права Росс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дметом науки истории государства и права Рос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изучение возникновения и развития типов и форм государства и права, институтов и механизмов государственной власти, а также правовых институтов конкретных государств у народов нашей страны в определенный исторический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евская Русь – раннефеодальная монарх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нефеодальная монарх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овал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уси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. и характеризовалась следующими чер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юзеренно-вассальные отно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жду главой государстве 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ыми феодал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главы государства (князя) направлялась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обым органом — Советом при кня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уда входили наиболее крупные феода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е сложилась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ворцово - вотчинн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авления, на местах-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истема кормл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Древнерусского государст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ширность территории вызывала необходимость установления более сильной власти Великого князя киевского и одновременно вела к большей самостоятельности общин;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ятие православия вело к отсутствию борьбы за власть между верховной властью и церковью (сравните постоянные конфликты по этому поводу между Папой Римским и западноевропейскими монархами) и усилению власти князя за счет поддержки его церков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шие органы древнерусского государст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нязь, Великий князь киевский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ун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шие военные, административные, судебные, законода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овет при кня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ладал теми же функциями, что и сам князь. Состав сов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енная знать, «старцы градские», высшее духове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еч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ародное собрание, в составе которого взрослые мужчины. Созывается по мере надобности . 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войны и мира, смещение князя, выборы админист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шие органы древнерусского государст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Феодальный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уд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ываемый для решения важных и спорных вопросов (вассалитет, разделение земель, вопросы войны и ми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естное управ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уществляется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осадникам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местниками) в городах и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лос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ельской местности. Опиралось на военные гарнизоны, руководимые тысяцкими, сотниками и десятски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ели князя обладали следующими полномочиями: осуществляли сбор дани и пошлин, исполняли правосудие, устанавливали  и взимали штраф и др. Вместо жалованья за службу они имели право оставить часть собранного с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дебные орган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евнерусского государст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ебные функции выполня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рганы власти и управления в центре и на мест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князья, посадники , волостели и т.д.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церк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суд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мое население своих земель (по всем категориям дел)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ховенство (по всем категориям де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еление (по некоторым категориям д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ступление против религии, нравственности и т.д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ственное устройство Киевской Рус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еликие и удельные князь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оя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одоплеменная зна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Градские люд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орожане), делимые на «лучших» (зажиточных) и «черных» (т.е. бедны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мер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ельское население, свободные люди, имевшие пашню и свое хозяй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ку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феодально-зависимое насе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еля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бы – плен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Холо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юди, ставшие рабами по другим причинам (самопродажа, женитьба на рабыне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ы пра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права на ранних этапах существования государ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новная 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авовой обычай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ывающийся на обычаях догосударственного периода существования об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ормативно-правовой а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по мере развития государства начинает играть все большую 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ера действия обычного пра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ера действия норм обычного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емейно-брачные отно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формы заключения  дохристианского брака, порядок наследова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мущественные отно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рядок заключения сделок, способы обеспечения выполнения обязатель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головное пра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кровная ме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ежобщинные отношения и внутриобщинные отно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осударственно-правовые отношен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и нормативно-правового ак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ами нормативно-правового акта являю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бычное пра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удебная прак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ностранное прав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прежде всего, византийское церковное прав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ервые нормативные ак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езультат законодательной деятельности кня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о-правовые ак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усская прав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ажнейший памятник древнерусского пр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ревнерусские княжеские уставы и уставные грам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говоры Руси с гре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907, 911, 944, 971 г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гулирование торговых отношений, порядок разрешения гражданско-правовых споров, виды наказаний за уголовные преступ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 науки истории государства и права Росс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государства и права России исследует взаим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х структу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вых институ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й из задач науки истории государства и права России является изучение различных подходов в истори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8000"/>
                </a:solidFill>
                <a:latin typeface="Arial"/>
              </a:rPr>
              <a:t>Уставная грам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документ, устанавливающий повинности феодально - зависимого населения, а применительно к церковным - документ, закрепляющий взаимоотношения светской и церковной властей в связи с конкретным случаем в определенном княжестве и на определенное врем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8000"/>
                </a:solidFill>
                <a:latin typeface="Arial"/>
              </a:rPr>
              <a:t>Устав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амятники более сложного состава, закрепляющие взаимоотношения государства и церковных властей на длитель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о-правовые ак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ая Правд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усская прав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мплекс юридических документ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ные части Русской прав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евнейшая правда (около 1015 г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да Ярославичей (около 1072 г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в Мономаха (около 1120-1130 гг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ая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д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усская прав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амятник феодального права, дошедший до нас в виде 127 списках (копий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близости содержания списки разделены на три групп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ая Русская правда (до 1054 г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ранная Русская Правда (1113 г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ная Русская правда ( середи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ая Русская правда (до 1054 г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авда Яросл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ит из 18 статей. В ней были обобщены важные нормы обычного и судебного права. Она не давала преимущества феодалу, устанавливала кровную месть за убийство. Феодал, боярин и крестьянин пользовались правом кровной мести по отношению друг к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авда Ярослави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составлена после восстания в Киеве на съезде князей Ярославичей. Проводила основной принцип феодального права — права привилегий. Она отменяла кровную месть и устанавливала штраф за убийство. Размер штрафа зависел от со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жения потерпевшего. Защищала интересы феод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анная Русская Правда (1113 г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уд Яросл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борник правовых норм, в который входили отдельные постановления князей и имеющаяся к тому времени судебная практика. Принцип феодального права был выражен со всей определенностью: кровная месть окончательно отменяется, зашита феодалов укрепля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став Монома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учрежден на съезде феодалов после подавления Киевского восстания (1113 г.). Обновил прежнее законодательство, ввел новые нормы, которые были направлены на защиту интересов феодала. В то же время были сделаны уступки для простого народа. Выл снижен процент по долгам, облегчено положение заку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щенная Русская правд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ереди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обранные и частично переработанные применительно к условиям Московского государства многие нормы пространной Русской Прав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ы и субъекты преступлени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о Русской правд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бъекты преступл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ичность и имуществ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ивная сторона преступления охватывала как покушение на преступление, так и преступление оконче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убъекты преступ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се физические лица, не исключая раб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ъективная сторона преступления включала умысел или неосторожность, хотя четкого разграничения форм вины еще не существов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ы преступлений по Русской Правд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ы преступлений по Русской Прав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тив телесной неприкоснов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нение, побои, отнятие руки, ноги, глаз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тив че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оскорбление действием (вырывание бороды, усов, выбивание зубов, толкание) и слов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тив иму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ража — «татьба», кража из закрытого помещения, конокрадство, порча межевых знаков, поджог жилого и нежилого помещ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тив церкв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церковная кража; разграбление могил; посечение крестов; ввод в церковь животных и птиц; колдовство; моление в рощах, у воды и т.д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наказаний по Русской Правд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мертная каз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усской Правде не упоминается, согласно летописи она все же имела мест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ток и разграб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сшая мера наказания, которая заключалась в конфискации имущества и обращение преступника и членов его семьи в рабство. Применялась за убийство в разбое, поджог и казнокра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ира – денежное взыск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значаемое за убийство. Поступала в княжескую каз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оловниче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енежное взыскание в размере виры, взимаемое в пользу семьи убит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наказаний по Русской Правд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рок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ное денежное возмещение в пользу потерпевшего за причиненный ему ущер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даж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траф, размер которого определялся в зависимости от тяжести преступ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одажа взималась в пользу княз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методы изу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сторический мет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стоит в подходе к государству и праву как к развивающимся и изменяющимся по времени явлениям. «Связь времен» позволяет рассматривать все явления в единой исторической перспект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равнительный мет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ключается в сравнительном изучении государственно-правовых явлений России и других стран. При этом выявляются их общие черты, различия и особенности развития Могут сравниваться и отдельные государственно-правовые институты страны в процессе их э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четы обязательственного, семейного и наследственного пра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ражданская правоспособ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зникала с момента рождения,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ражданская дееспособ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 достижении совершеннолетия ( очевидно, 15 л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кращение правоспособ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мерть или получение статуса холо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новные субъекты имущественны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се свободные, включая иностран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бъекты правового регулир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ещи и действия третьих лиц, связанные с либо передачей имущества, либо с личными услу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ственное право в Древнерусском государств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ства периода Киевской Руси имели ряд особенностей, отличающих их от периода позднего феод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ее поздний период обязательства вели к установлению прав на действия обязанных лиц. В период же Древнерусского государства они вели к установлению прав на личность обязанных л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ства возлагались не только на обязанное лицо, они падали и на лиц его семьи (жену, дет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исполнение обязательств могло иметь своим последствием превращение обязательного лица в холопа. Так, закуп, не желавший выполнить обязательство по этому договору или ушедший от своего хозяина, превращался в полного холопа    (ст. 5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чное и семейное прав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лась моногамная семья, браку предшествовало обручение, считавшееся нерасторжимым. Для вступления в брак надо было иметь определенный возраст, он был низок: 14-15 лет для мужчин и 12-13 лет для женщин. Другим требованием для действительности брака являлись свободная вол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чующихся и согласие родителей. Требовалось отсутствие родства и свойства в известных степенях. Церковь, кроме того, ограничивала число последовательно заключаемых браков: она не допускала вступления в третий бр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чное и семейное прав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я расторжения бра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любодеяние (жены, но не муж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женой игрищ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хищение имущества мужа или наводка во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ледственное прав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ство – «зад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» или ста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ование осуществлялось по закону и по завещ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 завещания –устная, но возможно и письменное оформ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д и процесс в Киевском государств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русском государстве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делалось различий между гражданским и уголовным пра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сюда не было различий в судопроизвод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уд не был отделен от администр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ьями были князья, посадники, волос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спомогательные судебные должностные 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ирник, ябедник, метельник, меч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тадии процес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клич», «свод», «гонение сле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истема доказатель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ственное признание, послухи, видоки, присяга, жреб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65040" y="558936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ема 3. Государство и право Руси в период феодальной раздробленности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II – XIV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вв.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 распада Киевской Рус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Экономические причи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система натурального хозяйства, слабость товарного обм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оциально-политические причи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«оседание» дружин на земле, изменения в системе государственного управл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ешнеполитические причи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торжение татаро-монголов, исчезновение товарного пути «из варяг в гре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город - Псковской земл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развитие крупного боярского землевла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ий уровень развития ремесел и торгов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ческая независимость от Киева, складывание феодальн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7632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развития государства и общества в условиях феодальной раздроблен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ь между политической властью и владением зем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иммунитета – освобождение боярских вотчин от княжеского управления и с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ерархическая структура земельной собственности и феодальная «лестниц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рцово-вотчинная система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методы изуч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истемно-структурный мет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ффективен при исследовании самоуправляющихся систем, состоящих из множества взаимодействующих элементов. Их анализ предусматривает изучение структуры элементов, их внутренних и внешних связей, выявление системообразующих эле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татистический мет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уется при исследовании количественных сторон исторического процесса. Работа с числовыми показателями позволяет выявить протяженность, распространенность, темпы развития и другие стороны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ый строй Новгоро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сковской республи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одалы – духовные и светские ( монастыри, иерархи, бояре, «житьи люди», «своеземцы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ское население ( купцы, ремесленики, «молодшие люд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одально-зависимое население ( смерды, половники, холоп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енный строй Новгоро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Псковской республи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ысший орган – веч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собрание жителей Новгорода и Пс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овет госп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стоянно действующий орган, реальный носитель верховной власти Новгорода и Пс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ысшие должностные л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нязь, архиепископ, посадник, тысяц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одальное право Новгоро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сковской республи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ая Прав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ое пра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яжеские уставы и грам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ковская Судная грам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сковская Судная грамо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ковская судная грамота (1467 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екс феодального пр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системность в изложении нор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некоторых общих положений и поня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развитая система обязательственного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а уголовного права по Псковской Судной грамот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ступ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чинение ущерба не только частной собственности, но и государ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убъект преступления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е лица, независимо от социального происхо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истема преступлений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 государст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а,  «перевет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 судебных орган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йный посул судье, оскорбление должностного л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 собствен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тьба, грабеж, разбой, кража, поджог, конокрад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 лич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ийство, нанесение побоев, оскорбление действ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допроизводство в Новгород – Псковской республик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ние роли с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ответчика повес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системы доказатель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ме названых в Русской Правде добавились судебный поединок и письменные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судебного представительства для женщин, монахов, стариков и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ормление решение суда судной грам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057040" y="4636800"/>
            <a:ext cx="6978600" cy="18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ема 4. Образование Русского  централизованного государства и развитие права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IV –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ередина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вв.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щность централиза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русских земель вокруг нового центра – Мос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централизованного государственного аппарата, новой структуры власти в Московском государ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процесса государственной централиза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ые деспотические тенденции в структуре и политике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ора самодержавной власти  - не на союз городов с дворянством, на поместное дворя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ощение крестьянства и усиление сословной дифференц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ы централиза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т феодального землевладения и появление поме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экономики и товарно-денежны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ьба с внешней опас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изуч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озаключение по аналог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вывод о сходстве двух или более явлений в каких-либо определенных отношениях. Аналогия применяется в случаях изучения явлений, сведения о которых неточны, неполны или фрагмента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1128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я в государственном аппарате и государственной идеолог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Organization Chart 3"/>
          <p:cNvGrpSpPr/>
          <p:nvPr/>
        </p:nvGrpSpPr>
        <p:grpSpPr>
          <a:xfrm>
            <a:off x="1008720" y="1734480"/>
            <a:ext cx="7704720" cy="4548960"/>
            <a:chOff x="1008720" y="1734480"/>
            <a:chExt cx="7704720" cy="4548960"/>
          </a:xfrm>
        </p:grpSpPr>
        <p:cxnSp>
          <p:nvCxnSpPr>
            <p:cNvPr id="386" name="_s4100"/>
            <p:cNvCxnSpPr>
              <a:stCxn id="387" idx="0"/>
              <a:endCxn id="388" idx="2"/>
            </p:cNvCxnSpPr>
            <p:nvPr/>
          </p:nvCxnSpPr>
          <p:spPr>
            <a:xfrm flipV="1">
              <a:off x="4861440" y="4457880"/>
              <a:ext cx="2880" cy="1410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lg" type="stealth" w="lg"/>
            </a:ln>
          </p:spPr>
        </p:cxnSp>
        <p:cxnSp>
          <p:nvCxnSpPr>
            <p:cNvPr id="389" name="_s4101"/>
            <p:cNvCxnSpPr>
              <a:stCxn id="390" idx="0"/>
              <a:endCxn id="388" idx="2"/>
            </p:cNvCxnSpPr>
            <p:nvPr/>
          </p:nvCxnSpPr>
          <p:spPr>
            <a:xfrm flipH="1" flipV="1" rot="5400000">
              <a:off x="3450600" y="3517920"/>
              <a:ext cx="470880" cy="2350440"/>
            </a:xfrm>
            <a:prstGeom prst="bentConnector3">
              <a:avLst>
                <a:gd name="adj1" fmla="val 59525"/>
              </a:avLst>
            </a:prstGeom>
            <a:ln w="28440">
              <a:solidFill>
                <a:srgbClr val="000000"/>
              </a:solidFill>
              <a:miter/>
              <a:headEnd len="lg" type="stealth" w="lg"/>
            </a:ln>
          </p:spPr>
        </p:cxnSp>
        <p:cxnSp>
          <p:nvCxnSpPr>
            <p:cNvPr id="391" name="_s4102"/>
            <p:cNvCxnSpPr>
              <a:stCxn id="392" idx="0"/>
              <a:endCxn id="388" idx="2"/>
            </p:cNvCxnSpPr>
            <p:nvPr/>
          </p:nvCxnSpPr>
          <p:spPr>
            <a:xfrm flipV="1" rot="16200000">
              <a:off x="5792760" y="3525840"/>
              <a:ext cx="408960" cy="2272680"/>
            </a:xfrm>
            <a:prstGeom prst="bentConnector3">
              <a:avLst>
                <a:gd name="adj1" fmla="val 51453"/>
              </a:avLst>
            </a:prstGeom>
            <a:ln w="28440">
              <a:solidFill>
                <a:srgbClr val="000000"/>
              </a:solidFill>
              <a:miter/>
              <a:headEnd len="lg" type="stealth" w="lg"/>
            </a:ln>
          </p:spPr>
        </p:cxnSp>
        <p:cxnSp>
          <p:nvCxnSpPr>
            <p:cNvPr id="393" name="_s4103"/>
            <p:cNvCxnSpPr>
              <a:stCxn id="394" idx="0"/>
              <a:endCxn id="395" idx="2"/>
            </p:cNvCxnSpPr>
            <p:nvPr/>
          </p:nvCxnSpPr>
          <p:spPr>
            <a:xfrm flipV="1" rot="16200000">
              <a:off x="6047280" y="1298520"/>
              <a:ext cx="329040" cy="2701800"/>
            </a:xfrm>
            <a:prstGeom prst="bentConnector3">
              <a:avLst>
                <a:gd name="adj1" fmla="val 60350"/>
              </a:avLst>
            </a:prstGeom>
            <a:ln w="28440">
              <a:solidFill>
                <a:srgbClr val="000000"/>
              </a:solidFill>
              <a:miter/>
              <a:headEnd len="lg" type="stealth" w="lg"/>
            </a:ln>
          </p:spPr>
        </p:cxnSp>
        <p:cxnSp>
          <p:nvCxnSpPr>
            <p:cNvPr id="396" name="_s4104"/>
            <p:cNvCxnSpPr>
              <a:stCxn id="388" idx="0"/>
              <a:endCxn id="395" idx="2"/>
            </p:cNvCxnSpPr>
            <p:nvPr/>
          </p:nvCxnSpPr>
          <p:spPr>
            <a:xfrm flipV="1">
              <a:off x="4861440" y="2484720"/>
              <a:ext cx="2880" cy="153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lg" type="stealth" w="lg"/>
            </a:ln>
          </p:spPr>
        </p:cxnSp>
        <p:cxnSp>
          <p:nvCxnSpPr>
            <p:cNvPr id="397" name="_s4105"/>
            <p:cNvCxnSpPr>
              <a:stCxn id="398" idx="0"/>
              <a:endCxn id="395" idx="2"/>
            </p:cNvCxnSpPr>
            <p:nvPr/>
          </p:nvCxnSpPr>
          <p:spPr>
            <a:xfrm flipH="1" flipV="1" rot="5400000">
              <a:off x="3509640" y="1462320"/>
              <a:ext cx="329040" cy="2374200"/>
            </a:xfrm>
            <a:prstGeom prst="bentConnector3">
              <a:avLst>
                <a:gd name="adj1" fmla="val 61226"/>
              </a:avLst>
            </a:prstGeom>
            <a:ln w="28440">
              <a:solidFill>
                <a:srgbClr val="000000"/>
              </a:solidFill>
              <a:miter/>
              <a:headEnd len="lg" type="stealth" w="lg"/>
            </a:ln>
          </p:spPr>
        </p:cxnSp>
        <p:sp>
          <p:nvSpPr>
            <p:cNvPr id="395" name="_s4106"/>
            <p:cNvSpPr/>
            <p:nvPr/>
          </p:nvSpPr>
          <p:spPr>
            <a:xfrm>
              <a:off x="1008720" y="1734480"/>
              <a:ext cx="7704720" cy="75096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зменения в государственном аппарат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 государственной идеолог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4107"/>
            <p:cNvSpPr/>
            <p:nvPr/>
          </p:nvSpPr>
          <p:spPr>
            <a:xfrm>
              <a:off x="1008720" y="2814120"/>
              <a:ext cx="2957040" cy="88596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ормирование нов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атрибутов церкв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4108"/>
            <p:cNvSpPr/>
            <p:nvPr/>
          </p:nvSpPr>
          <p:spPr>
            <a:xfrm>
              <a:off x="1008720" y="4019400"/>
              <a:ext cx="7704720" cy="43848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оярская ду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4109"/>
            <p:cNvSpPr/>
            <p:nvPr/>
          </p:nvSpPr>
          <p:spPr>
            <a:xfrm>
              <a:off x="6411600" y="2814120"/>
              <a:ext cx="2301480" cy="88596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Царь – высш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источник вла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4110"/>
            <p:cNvSpPr/>
            <p:nvPr/>
          </p:nvSpPr>
          <p:spPr>
            <a:xfrm>
              <a:off x="5551200" y="4866480"/>
              <a:ext cx="3161880" cy="81288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остав и принцип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ормир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4111"/>
            <p:cNvSpPr/>
            <p:nvPr/>
          </p:nvSpPr>
          <p:spPr>
            <a:xfrm>
              <a:off x="1038240" y="4928760"/>
              <a:ext cx="2946240" cy="62640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омпетен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4112"/>
            <p:cNvSpPr/>
            <p:nvPr/>
          </p:nvSpPr>
          <p:spPr>
            <a:xfrm>
              <a:off x="1008720" y="5868000"/>
              <a:ext cx="7704720" cy="41544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Местное управление и система кормл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альные органы управл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ведомства дворцовых пу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у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пределенный хозяйственный комплекс, ведение которого  поручалось отдельным бояра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ение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приказ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стоянно действовавших административно - судебных учре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середи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 приказная система  полностью вытесняет дворцово-вотчин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ственный строй Московского государства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един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ояр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ысшее служивое сослов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вшие удельные князья и бояре, имеющие вотч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ворянств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луживое сословие, получающее за службу поме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ухо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садские лю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ягловое сослов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ти, торговые люди гостинных и суконных сотен, мелкие торговцы и ремесле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рестьян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сновное тягловое сословие: чернотягловые ( на земле Великого князя), частновладельческие, дворцовые,  холо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русского феодального пра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XV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еди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 пр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ая правда в Сокращенной ред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окняжеское законода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тивные акты Боярской Ду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новления Земских со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ряжения прик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ебник 149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дебник 1497 г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ебник 1497 г. содержал 100 глав – ста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Цели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ить юрисдикцию Великого князя на всю территорию централизованного государ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квидировать правовые суверенитеты отдельных земель, уделов и обла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дебник 1497 г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обенности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ы права излагались без четкой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о закреплялись привилегии господствовавшего сосло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лось неравное положение зависимых сосло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подробную регламентацию получили судебный процесс, уголовно-правовые и имущественные отно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 круг субъектов преступления, разработана форма в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илились черты розыск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реступлений по Судебнику 1497 г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ступления против государ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«крамола» (политическая деятельность против государства), «подым» (организация волнений, мятежей), заговор, брань в адрес государ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лжностные преступ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зяточничество, злоупотребления власт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мущественные преступ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тьба, разбой, грабеж. Различается татьба простая и квалифицированная (церковная и «головная», т. е. похищение люде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ступления против ли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убийство (душегубство), оскорбление действием и сло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057040" y="4637160"/>
            <a:ext cx="6978600" cy="17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ема 5. Государство и право России в период сословно-представительной монархии (середина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VI –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ередина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о и право России в период сословно-представительной монарх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ословно-представительная монарх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разновидность ограниченной монархии периода феодализма, при которой власть монарха сочеталась с органами сословного представительства дворян, духовенства и горож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черты сословно-представительной монарх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 подданства, сменившие отношения вассалитета-сюзеренит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царя направлялась Боярской думой, которая помимо знати включала в себя представителей дворян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ыв Земских соб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азная система управления, заменившая дворцово-вотчинную сист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губного и земского самоуправления на местах, заменившая систему корм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методы изуч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Экстрапо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усматривает распространение выводов, полученных в ходе исследования одной части явления ( процесса) на другую его часть. Экстраполяция способствует  прогнозированию, особенно тогда, когда объектом исследования является исторический процесс. Выводы, полученные в результате исследования завершившейся ступени развития, помогают понять настоящее и предвидеть границы буду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Rectangle 2"/>
          <p:cNvGrpSpPr/>
          <p:nvPr/>
        </p:nvGrpSpPr>
        <p:grpSpPr>
          <a:xfrm>
            <a:off x="290520" y="649440"/>
            <a:ext cx="8674200" cy="6448680"/>
            <a:chOff x="290520" y="649440"/>
            <a:chExt cx="8674200" cy="6448680"/>
          </a:xfrm>
        </p:grpSpPr>
        <p:sp>
          <p:nvSpPr>
            <p:cNvPr id="417" name="AutoShape 3"/>
            <p:cNvSpPr/>
            <p:nvPr/>
          </p:nvSpPr>
          <p:spPr>
            <a:xfrm>
              <a:off x="290520" y="649440"/>
              <a:ext cx="8674200" cy="64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8" name="_s152588"/>
            <p:cNvCxnSpPr/>
            <p:nvPr/>
          </p:nvCxnSpPr>
          <p:spPr>
            <a:xfrm flipH="1" flipV="1" rot="5400000">
              <a:off x="4018320" y="2895120"/>
              <a:ext cx="1281600" cy="329040"/>
            </a:xfrm>
            <a:prstGeom prst="bentConnector3">
              <a:avLst>
                <a:gd name="adj1" fmla="val 89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9" name="_s152587"/>
            <p:cNvCxnSpPr/>
            <p:nvPr/>
          </p:nvCxnSpPr>
          <p:spPr>
            <a:xfrm flipV="1" rot="16200000">
              <a:off x="5465520" y="1775880"/>
              <a:ext cx="1281600" cy="2566800"/>
            </a:xfrm>
            <a:prstGeom prst="bentConnector3">
              <a:avLst>
                <a:gd name="adj1" fmla="val 89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0" name="_s152586"/>
            <p:cNvCxnSpPr>
              <a:stCxn id="421" idx="0"/>
              <a:endCxn id="422" idx="2"/>
            </p:cNvCxnSpPr>
            <p:nvPr/>
          </p:nvCxnSpPr>
          <p:spPr>
            <a:xfrm flipH="1" flipV="1" rot="5400000">
              <a:off x="2598120" y="1474920"/>
              <a:ext cx="1281600" cy="3169440"/>
            </a:xfrm>
            <a:prstGeom prst="bentConnector3">
              <a:avLst>
                <a:gd name="adj1" fmla="val 89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3" name="_s152581"/>
            <p:cNvCxnSpPr>
              <a:stCxn id="424" idx="1"/>
            </p:cNvCxnSpPr>
            <p:nvPr/>
          </p:nvCxnSpPr>
          <p:spPr>
            <a:xfrm flipH="1" rot="10800000">
              <a:off x="1164960" y="4955760"/>
              <a:ext cx="3329640" cy="383400"/>
            </a:xfrm>
            <a:prstGeom prst="bentConnector4">
              <a:avLst>
                <a:gd name="adj1" fmla="val -3330"/>
                <a:gd name="adj2" fmla="val 90789"/>
              </a:avLst>
            </a:prstGeom>
            <a:ln w="0">
              <a:noFill/>
            </a:ln>
          </p:spPr>
        </p:cxnSp>
        <p:sp>
          <p:nvSpPr>
            <p:cNvPr id="422" name="_s152585"/>
            <p:cNvSpPr/>
            <p:nvPr/>
          </p:nvSpPr>
          <p:spPr>
            <a:xfrm>
              <a:off x="4138200" y="1986120"/>
              <a:ext cx="1370160" cy="43272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царь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11"/>
            <p:cNvSpPr/>
            <p:nvPr/>
          </p:nvSpPr>
          <p:spPr>
            <a:xfrm>
              <a:off x="3067560" y="3700440"/>
              <a:ext cx="2846880" cy="125568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Боярская дум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12"/>
            <p:cNvSpPr/>
            <p:nvPr/>
          </p:nvSpPr>
          <p:spPr>
            <a:xfrm>
              <a:off x="5990760" y="3700440"/>
              <a:ext cx="2797560" cy="127404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Представители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сослови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и территори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_s152589"/>
            <p:cNvSpPr/>
            <p:nvPr/>
          </p:nvSpPr>
          <p:spPr>
            <a:xfrm>
              <a:off x="290520" y="3700440"/>
              <a:ext cx="2728080" cy="125568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Церковная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иерархи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_s152590"/>
            <p:cNvSpPr/>
            <p:nvPr/>
          </p:nvSpPr>
          <p:spPr>
            <a:xfrm>
              <a:off x="1166040" y="5024880"/>
              <a:ext cx="6713640" cy="62784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Земский собор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Rectangle 15"/>
          <p:cNvSpPr/>
          <p:nvPr/>
        </p:nvSpPr>
        <p:spPr>
          <a:xfrm>
            <a:off x="1511280" y="260280"/>
            <a:ext cx="7632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государственной власти в России в период  сословно-представительной монарх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Organization Chart 2"/>
          <p:cNvGrpSpPr/>
          <p:nvPr/>
        </p:nvGrpSpPr>
        <p:grpSpPr>
          <a:xfrm>
            <a:off x="290520" y="2130120"/>
            <a:ext cx="8498160" cy="2844360"/>
            <a:chOff x="290520" y="2130120"/>
            <a:chExt cx="8498160" cy="2844360"/>
          </a:xfrm>
        </p:grpSpPr>
        <p:cxnSp>
          <p:nvCxnSpPr>
            <p:cNvPr id="429" name="_s5124"/>
            <p:cNvCxnSpPr>
              <a:stCxn id="430" idx="0"/>
              <a:endCxn id="431" idx="2"/>
            </p:cNvCxnSpPr>
            <p:nvPr/>
          </p:nvCxnSpPr>
          <p:spPr>
            <a:xfrm flipH="1" flipV="1" rot="5400000">
              <a:off x="2901960" y="1975320"/>
              <a:ext cx="967320" cy="2482920"/>
            </a:xfrm>
            <a:prstGeom prst="bentConnector3">
              <a:avLst>
                <a:gd name="adj1" fmla="val 547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2" name="_s5125"/>
            <p:cNvCxnSpPr>
              <a:stCxn id="433" idx="0"/>
              <a:endCxn id="431" idx="2"/>
            </p:cNvCxnSpPr>
            <p:nvPr/>
          </p:nvCxnSpPr>
          <p:spPr>
            <a:xfrm flipV="1" rot="16200000">
              <a:off x="5297400" y="2061720"/>
              <a:ext cx="967320" cy="2309760"/>
            </a:xfrm>
            <a:prstGeom prst="bentConnector3">
              <a:avLst>
                <a:gd name="adj1" fmla="val 549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31" name="_s5126"/>
            <p:cNvSpPr/>
            <p:nvPr/>
          </p:nvSpPr>
          <p:spPr>
            <a:xfrm>
              <a:off x="1605240" y="2130120"/>
              <a:ext cx="6042960" cy="60336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Управлени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5127"/>
            <p:cNvSpPr/>
            <p:nvPr/>
          </p:nvSpPr>
          <p:spPr>
            <a:xfrm>
              <a:off x="5075640" y="3700440"/>
              <a:ext cx="3713040" cy="127404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Местное управлени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5128"/>
            <p:cNvSpPr/>
            <p:nvPr/>
          </p:nvSpPr>
          <p:spPr>
            <a:xfrm>
              <a:off x="290520" y="3700440"/>
              <a:ext cx="3708000" cy="125568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Центральное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управлени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Rectangle 9"/>
          <p:cNvSpPr/>
          <p:nvPr/>
        </p:nvSpPr>
        <p:spPr>
          <a:xfrm>
            <a:off x="1511280" y="260280"/>
            <a:ext cx="7632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енное управление в России в период  сословно-представительной монарх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11280" y="26028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альные органы управления в России в период  сословно-представительной монарх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Organization Chart 3"/>
          <p:cNvGrpSpPr/>
          <p:nvPr/>
        </p:nvGrpSpPr>
        <p:grpSpPr>
          <a:xfrm>
            <a:off x="1258560" y="1844640"/>
            <a:ext cx="7292880" cy="4276080"/>
            <a:chOff x="1258560" y="1844640"/>
            <a:chExt cx="7292880" cy="4276080"/>
          </a:xfrm>
        </p:grpSpPr>
        <p:cxnSp>
          <p:nvCxnSpPr>
            <p:cNvPr id="437" name="_s6148"/>
            <p:cNvCxnSpPr>
              <a:stCxn id="438" idx="1"/>
              <a:endCxn id="439" idx="2"/>
            </p:cNvCxnSpPr>
            <p:nvPr/>
          </p:nvCxnSpPr>
          <p:spPr>
            <a:xfrm rot="10800000">
              <a:off x="4713120" y="3460680"/>
              <a:ext cx="495360" cy="229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0" name="_s6149"/>
            <p:cNvCxnSpPr>
              <a:stCxn id="441" idx="3"/>
              <a:endCxn id="439" idx="2"/>
            </p:cNvCxnSpPr>
            <p:nvPr/>
          </p:nvCxnSpPr>
          <p:spPr>
            <a:xfrm flipV="1">
              <a:off x="4304880" y="3461040"/>
              <a:ext cx="405360" cy="229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2" name="_s6150"/>
            <p:cNvCxnSpPr>
              <a:stCxn id="443" idx="1"/>
              <a:endCxn id="439" idx="2"/>
            </p:cNvCxnSpPr>
            <p:nvPr/>
          </p:nvCxnSpPr>
          <p:spPr>
            <a:xfrm rot="10800000">
              <a:off x="4713120" y="3460680"/>
              <a:ext cx="504000" cy="147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4" name="_s6151"/>
            <p:cNvCxnSpPr>
              <a:stCxn id="445" idx="3"/>
              <a:endCxn id="439" idx="2"/>
            </p:cNvCxnSpPr>
            <p:nvPr/>
          </p:nvCxnSpPr>
          <p:spPr>
            <a:xfrm flipV="1">
              <a:off x="4317480" y="3460680"/>
              <a:ext cx="396720" cy="146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6" name="_s6152"/>
            <p:cNvCxnSpPr>
              <a:stCxn id="447" idx="1"/>
              <a:endCxn id="439" idx="2"/>
            </p:cNvCxnSpPr>
            <p:nvPr/>
          </p:nvCxnSpPr>
          <p:spPr>
            <a:xfrm rot="10800000">
              <a:off x="4713120" y="3460680"/>
              <a:ext cx="504000" cy="62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8" name="_s6153"/>
            <p:cNvCxnSpPr>
              <a:stCxn id="449" idx="3"/>
              <a:endCxn id="439" idx="2"/>
            </p:cNvCxnSpPr>
            <p:nvPr/>
          </p:nvCxnSpPr>
          <p:spPr>
            <a:xfrm flipV="1">
              <a:off x="4304880" y="3461040"/>
              <a:ext cx="405360" cy="62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0" name="_s6154"/>
            <p:cNvCxnSpPr>
              <a:stCxn id="451" idx="0"/>
              <a:endCxn id="452" idx="2"/>
            </p:cNvCxnSpPr>
            <p:nvPr/>
          </p:nvCxnSpPr>
          <p:spPr>
            <a:xfrm flipV="1" rot="16200000">
              <a:off x="5955480" y="950400"/>
              <a:ext cx="511920" cy="3004200"/>
            </a:xfrm>
            <a:prstGeom prst="bentConnector3">
              <a:avLst>
                <a:gd name="adj1" fmla="val 609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3" name="_s6155"/>
            <p:cNvCxnSpPr>
              <a:stCxn id="439" idx="0"/>
              <a:endCxn id="452" idx="2"/>
            </p:cNvCxnSpPr>
            <p:nvPr/>
          </p:nvCxnSpPr>
          <p:spPr>
            <a:xfrm flipV="1" rot="16200000">
              <a:off x="4456080" y="2450520"/>
              <a:ext cx="511920" cy="3960"/>
            </a:xfrm>
            <a:prstGeom prst="bentConnector3">
              <a:avLst>
                <a:gd name="adj1" fmla="val 222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4" name="_s6156"/>
            <p:cNvCxnSpPr>
              <a:stCxn id="455" idx="0"/>
              <a:endCxn id="452" idx="2"/>
            </p:cNvCxnSpPr>
            <p:nvPr/>
          </p:nvCxnSpPr>
          <p:spPr>
            <a:xfrm flipH="1" flipV="1" rot="5400000">
              <a:off x="3166560" y="1166040"/>
              <a:ext cx="511920" cy="2573280"/>
            </a:xfrm>
            <a:prstGeom prst="bentConnector3">
              <a:avLst>
                <a:gd name="adj1" fmla="val 603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2" name="_s6157"/>
            <p:cNvSpPr/>
            <p:nvPr/>
          </p:nvSpPr>
          <p:spPr>
            <a:xfrm>
              <a:off x="2850840" y="1844640"/>
              <a:ext cx="3717720" cy="35208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Центральное управ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_s6158"/>
            <p:cNvSpPr/>
            <p:nvPr/>
          </p:nvSpPr>
          <p:spPr>
            <a:xfrm>
              <a:off x="1258560" y="2708640"/>
              <a:ext cx="1751400" cy="74160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иказ тай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е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59"/>
            <p:cNvSpPr/>
            <p:nvPr/>
          </p:nvSpPr>
          <p:spPr>
            <a:xfrm>
              <a:off x="3853080" y="2708640"/>
              <a:ext cx="1716120" cy="75276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иказ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6160"/>
            <p:cNvSpPr/>
            <p:nvPr/>
          </p:nvSpPr>
          <p:spPr>
            <a:xfrm>
              <a:off x="6874200" y="2708640"/>
              <a:ext cx="1677240" cy="74160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Челобитны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ика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6161"/>
            <p:cNvSpPr/>
            <p:nvPr/>
          </p:nvSpPr>
          <p:spPr>
            <a:xfrm>
              <a:off x="2553480" y="3787560"/>
              <a:ext cx="1751400" cy="60120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ворцово 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финансов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62"/>
            <p:cNvSpPr/>
            <p:nvPr/>
          </p:nvSpPr>
          <p:spPr>
            <a:xfrm>
              <a:off x="5217120" y="3747240"/>
              <a:ext cx="1751400" cy="67428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ое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63"/>
            <p:cNvSpPr/>
            <p:nvPr/>
          </p:nvSpPr>
          <p:spPr>
            <a:xfrm>
              <a:off x="2411640" y="4611240"/>
              <a:ext cx="1905480" cy="64152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удебно 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административ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64"/>
            <p:cNvSpPr/>
            <p:nvPr/>
          </p:nvSpPr>
          <p:spPr>
            <a:xfrm>
              <a:off x="5217120" y="4618800"/>
              <a:ext cx="1729800" cy="62640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централь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лас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65"/>
            <p:cNvSpPr/>
            <p:nvPr/>
          </p:nvSpPr>
          <p:spPr>
            <a:xfrm>
              <a:off x="2566080" y="5397480"/>
              <a:ext cx="1738800" cy="72324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осударствен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церков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_s6166"/>
            <p:cNvSpPr/>
            <p:nvPr/>
          </p:nvSpPr>
          <p:spPr>
            <a:xfrm>
              <a:off x="5208480" y="5389920"/>
              <a:ext cx="1729800" cy="72324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пециа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Line 0"/>
          <p:cNvSpPr/>
          <p:nvPr/>
        </p:nvSpPr>
        <p:spPr>
          <a:xfrm>
            <a:off x="2987640" y="3068640"/>
            <a:ext cx="863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"/>
          <p:cNvSpPr/>
          <p:nvPr/>
        </p:nvSpPr>
        <p:spPr>
          <a:xfrm>
            <a:off x="5580000" y="3068640"/>
            <a:ext cx="1297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11280" y="26028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стные органы управления в России в период  сословно-представительной монарх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Organization Chart 3"/>
          <p:cNvGrpSpPr/>
          <p:nvPr/>
        </p:nvGrpSpPr>
        <p:grpSpPr>
          <a:xfrm>
            <a:off x="274680" y="2131560"/>
            <a:ext cx="8257320" cy="3845880"/>
            <a:chOff x="274680" y="2131560"/>
            <a:chExt cx="8257320" cy="3845880"/>
          </a:xfrm>
        </p:grpSpPr>
        <p:cxnSp>
          <p:nvCxnSpPr>
            <p:cNvPr id="460" name="_s7172"/>
            <p:cNvCxnSpPr>
              <a:stCxn id="461" idx="0"/>
              <a:endCxn id="462" idx="2"/>
            </p:cNvCxnSpPr>
            <p:nvPr/>
          </p:nvCxnSpPr>
          <p:spPr>
            <a:xfrm flipV="1" rot="16200000">
              <a:off x="7158600" y="4968720"/>
              <a:ext cx="218880" cy="100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3" name="_s7173"/>
            <p:cNvCxnSpPr>
              <a:stCxn id="464" idx="0"/>
              <a:endCxn id="465" idx="2"/>
            </p:cNvCxnSpPr>
            <p:nvPr/>
          </p:nvCxnSpPr>
          <p:spPr>
            <a:xfrm flipV="1" rot="16200000">
              <a:off x="4366440" y="4524840"/>
              <a:ext cx="262800" cy="288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6" name="_s7174"/>
            <p:cNvCxnSpPr/>
            <p:nvPr/>
          </p:nvCxnSpPr>
          <p:spPr>
            <a:xfrm flipV="1" rot="16200000">
              <a:off x="1463400" y="4523760"/>
              <a:ext cx="262800" cy="54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7" name="_s7175"/>
            <p:cNvCxnSpPr>
              <a:stCxn id="462" idx="0"/>
              <a:endCxn id="468" idx="2"/>
            </p:cNvCxnSpPr>
            <p:nvPr/>
          </p:nvCxnSpPr>
          <p:spPr>
            <a:xfrm flipH="1" flipV="1" rot="5400000">
              <a:off x="7237080" y="4467600"/>
              <a:ext cx="57240" cy="5400"/>
            </a:xfrm>
            <a:prstGeom prst="bentConnector3">
              <a:avLst>
                <a:gd name="adj1" fmla="val 512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9" name="_s7176"/>
            <p:cNvCxnSpPr>
              <a:stCxn id="468" idx="0"/>
              <a:endCxn id="470" idx="2"/>
            </p:cNvCxnSpPr>
            <p:nvPr/>
          </p:nvCxnSpPr>
          <p:spPr>
            <a:xfrm flipH="1" flipV="1" rot="5400000">
              <a:off x="7162560" y="3966120"/>
              <a:ext cx="216000" cy="5040"/>
            </a:xfrm>
            <a:prstGeom prst="bentConnector3">
              <a:avLst>
                <a:gd name="adj1" fmla="val 49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1" name="_s7177"/>
            <p:cNvCxnSpPr>
              <a:stCxn id="465" idx="0"/>
              <a:endCxn id="472" idx="2"/>
            </p:cNvCxnSpPr>
            <p:nvPr/>
          </p:nvCxnSpPr>
          <p:spPr>
            <a:xfrm flipV="1" rot="16200000">
              <a:off x="3610080" y="2982600"/>
              <a:ext cx="294120" cy="1468440"/>
            </a:xfrm>
            <a:prstGeom prst="bentConnector3">
              <a:avLst>
                <a:gd name="adj1" fmla="val 388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3" name="_s7178"/>
            <p:cNvCxnSpPr>
              <a:stCxn id="474" idx="0"/>
              <a:endCxn id="472" idx="2"/>
            </p:cNvCxnSpPr>
            <p:nvPr/>
          </p:nvCxnSpPr>
          <p:spPr>
            <a:xfrm flipH="1" flipV="1" rot="5400000">
              <a:off x="2049840" y="4541400"/>
              <a:ext cx="1945440" cy="2880"/>
            </a:xfrm>
            <a:prstGeom prst="bentConnector3">
              <a:avLst>
                <a:gd name="adj1" fmla="val 5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5" name="_s7179"/>
            <p:cNvCxnSpPr>
              <a:stCxn id="476" idx="0"/>
              <a:endCxn id="472" idx="2"/>
            </p:cNvCxnSpPr>
            <p:nvPr/>
          </p:nvCxnSpPr>
          <p:spPr>
            <a:xfrm flipH="1" flipV="1" rot="5400000">
              <a:off x="2030040" y="2867040"/>
              <a:ext cx="291240" cy="1696680"/>
            </a:xfrm>
            <a:prstGeom prst="bentConnector3">
              <a:avLst>
                <a:gd name="adj1" fmla="val 391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7" name="_s7180"/>
            <p:cNvCxnSpPr>
              <a:stCxn id="470" idx="0"/>
              <a:endCxn id="478" idx="2"/>
            </p:cNvCxnSpPr>
            <p:nvPr/>
          </p:nvCxnSpPr>
          <p:spPr>
            <a:xfrm flipV="1" rot="16200000">
              <a:off x="6071400" y="1899720"/>
              <a:ext cx="313200" cy="2089080"/>
            </a:xfrm>
            <a:prstGeom prst="bentConnector3">
              <a:avLst>
                <a:gd name="adj1" fmla="val 364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9" name="_s7181"/>
            <p:cNvCxnSpPr>
              <a:stCxn id="472" idx="0"/>
              <a:endCxn id="478" idx="2"/>
            </p:cNvCxnSpPr>
            <p:nvPr/>
          </p:nvCxnSpPr>
          <p:spPr>
            <a:xfrm flipH="1" flipV="1" rot="5400000">
              <a:off x="3947040" y="1863720"/>
              <a:ext cx="313200" cy="2161080"/>
            </a:xfrm>
            <a:prstGeom prst="bentConnector3">
              <a:avLst>
                <a:gd name="adj1" fmla="val 364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8" name="_s7182"/>
            <p:cNvSpPr/>
            <p:nvPr/>
          </p:nvSpPr>
          <p:spPr>
            <a:xfrm>
              <a:off x="3058200" y="2131560"/>
              <a:ext cx="4248720" cy="65628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Местное управл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_s7183"/>
            <p:cNvSpPr/>
            <p:nvPr/>
          </p:nvSpPr>
          <p:spPr>
            <a:xfrm>
              <a:off x="1836000" y="3101040"/>
              <a:ext cx="2375640" cy="46908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амоуправл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_s7184"/>
            <p:cNvSpPr/>
            <p:nvPr/>
          </p:nvSpPr>
          <p:spPr>
            <a:xfrm>
              <a:off x="6011280" y="3101040"/>
              <a:ext cx="2520720" cy="75996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иказн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оеводская систем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_s7185"/>
            <p:cNvSpPr/>
            <p:nvPr/>
          </p:nvSpPr>
          <p:spPr>
            <a:xfrm>
              <a:off x="274680" y="3861000"/>
              <a:ext cx="2103480" cy="53460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уб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зб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_s7186"/>
            <p:cNvSpPr/>
            <p:nvPr/>
          </p:nvSpPr>
          <p:spPr>
            <a:xfrm>
              <a:off x="1259280" y="5515560"/>
              <a:ext cx="3526920" cy="37152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щее самоуправ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_s7187"/>
            <p:cNvSpPr/>
            <p:nvPr/>
          </p:nvSpPr>
          <p:spPr>
            <a:xfrm>
              <a:off x="3421800" y="3863880"/>
              <a:ext cx="2142360" cy="53172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емск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зб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_s7188"/>
            <p:cNvSpPr/>
            <p:nvPr/>
          </p:nvSpPr>
          <p:spPr>
            <a:xfrm>
              <a:off x="6300720" y="4076640"/>
              <a:ext cx="1936440" cy="36576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оево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7189"/>
            <p:cNvSpPr/>
            <p:nvPr/>
          </p:nvSpPr>
          <p:spPr>
            <a:xfrm>
              <a:off x="6288480" y="4499280"/>
              <a:ext cx="1946520" cy="36576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риказная изб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_s7190"/>
            <p:cNvSpPr/>
            <p:nvPr/>
          </p:nvSpPr>
          <p:spPr>
            <a:xfrm>
              <a:off x="274680" y="4655160"/>
              <a:ext cx="2118600" cy="62532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ицейско 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удебная функ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_s7191"/>
            <p:cNvSpPr/>
            <p:nvPr/>
          </p:nvSpPr>
          <p:spPr>
            <a:xfrm>
              <a:off x="3421800" y="4658040"/>
              <a:ext cx="2157480" cy="62532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логовые функ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7192"/>
            <p:cNvSpPr/>
            <p:nvPr/>
          </p:nvSpPr>
          <p:spPr>
            <a:xfrm>
              <a:off x="6156000" y="5083560"/>
              <a:ext cx="2230920" cy="89388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Административные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лицейские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оенные функ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1128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вая политика в России в период  сословно-представительной монарх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Organization Chart 3"/>
          <p:cNvGrpSpPr/>
          <p:nvPr/>
        </p:nvGrpSpPr>
        <p:grpSpPr>
          <a:xfrm>
            <a:off x="358920" y="1845720"/>
            <a:ext cx="8497440" cy="4651560"/>
            <a:chOff x="358920" y="1845720"/>
            <a:chExt cx="8497440" cy="4651560"/>
          </a:xfrm>
        </p:grpSpPr>
        <p:cxnSp>
          <p:nvCxnSpPr>
            <p:cNvPr id="483" name="_s8196"/>
            <p:cNvCxnSpPr>
              <a:stCxn id="484" idx="0"/>
              <a:endCxn id="485" idx="2"/>
            </p:cNvCxnSpPr>
            <p:nvPr/>
          </p:nvCxnSpPr>
          <p:spPr>
            <a:xfrm flipV="1">
              <a:off x="4754160" y="5235840"/>
              <a:ext cx="2160" cy="32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6" name="_s8197"/>
            <p:cNvCxnSpPr>
              <a:stCxn id="487" idx="1"/>
              <a:endCxn id="488" idx="2"/>
            </p:cNvCxnSpPr>
            <p:nvPr/>
          </p:nvCxnSpPr>
          <p:spPr>
            <a:xfrm rot="10800000">
              <a:off x="1135440" y="4212000"/>
              <a:ext cx="122400" cy="1961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9" name="_s8198"/>
            <p:cNvCxnSpPr>
              <a:stCxn id="490" idx="1"/>
              <a:endCxn id="488" idx="2"/>
            </p:cNvCxnSpPr>
            <p:nvPr/>
          </p:nvCxnSpPr>
          <p:spPr>
            <a:xfrm rot="10800000">
              <a:off x="1135440" y="4212000"/>
              <a:ext cx="122400" cy="1225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1" name="_s8199"/>
            <p:cNvCxnSpPr>
              <a:stCxn id="492" idx="1"/>
              <a:endCxn id="488" idx="2"/>
            </p:cNvCxnSpPr>
            <p:nvPr/>
          </p:nvCxnSpPr>
          <p:spPr>
            <a:xfrm rot="10800000">
              <a:off x="1135440" y="4212000"/>
              <a:ext cx="122400" cy="57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3" name="_s8200"/>
            <p:cNvCxnSpPr>
              <a:stCxn id="494" idx="0"/>
              <a:endCxn id="495" idx="2"/>
            </p:cNvCxnSpPr>
            <p:nvPr/>
          </p:nvCxnSpPr>
          <p:spPr>
            <a:xfrm flipV="1" rot="16200000">
              <a:off x="5662080" y="2170800"/>
              <a:ext cx="1400760" cy="3222360"/>
            </a:xfrm>
            <a:prstGeom prst="bentConnector3">
              <a:avLst>
                <a:gd name="adj1" fmla="val 814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6" name="_s8201"/>
            <p:cNvCxnSpPr>
              <a:stCxn id="497" idx="0"/>
              <a:endCxn id="495" idx="2"/>
            </p:cNvCxnSpPr>
            <p:nvPr/>
          </p:nvCxnSpPr>
          <p:spPr>
            <a:xfrm flipV="1" rot="16200000">
              <a:off x="5382720" y="2449800"/>
              <a:ext cx="393120" cy="1655280"/>
            </a:xfrm>
            <a:prstGeom prst="bentConnector3">
              <a:avLst>
                <a:gd name="adj1" fmla="val 3418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8" name="_s8202"/>
            <p:cNvCxnSpPr>
              <a:stCxn id="485" idx="0"/>
              <a:endCxn id="495" idx="2"/>
            </p:cNvCxnSpPr>
            <p:nvPr/>
          </p:nvCxnSpPr>
          <p:spPr>
            <a:xfrm flipV="1">
              <a:off x="4751640" y="3081600"/>
              <a:ext cx="2520" cy="1400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9" name="_s8203"/>
            <p:cNvCxnSpPr>
              <a:stCxn id="500" idx="0"/>
              <a:endCxn id="495" idx="2"/>
            </p:cNvCxnSpPr>
            <p:nvPr/>
          </p:nvCxnSpPr>
          <p:spPr>
            <a:xfrm flipH="1" flipV="1" rot="5400000">
              <a:off x="3764880" y="2471040"/>
              <a:ext cx="377640" cy="1597680"/>
            </a:xfrm>
            <a:prstGeom prst="bentConnector3">
              <a:avLst>
                <a:gd name="adj1" fmla="val 302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1" name="_s8204"/>
            <p:cNvCxnSpPr>
              <a:stCxn id="488" idx="0"/>
              <a:endCxn id="495" idx="2"/>
            </p:cNvCxnSpPr>
            <p:nvPr/>
          </p:nvCxnSpPr>
          <p:spPr>
            <a:xfrm flipH="1" flipV="1" rot="5400000">
              <a:off x="2683800" y="1391760"/>
              <a:ext cx="518760" cy="3614760"/>
            </a:xfrm>
            <a:prstGeom prst="bentConnector3">
              <a:avLst>
                <a:gd name="adj1" fmla="val 220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2" name="_s8205"/>
            <p:cNvCxnSpPr>
              <a:stCxn id="495" idx="0"/>
              <a:endCxn id="503" idx="2"/>
            </p:cNvCxnSpPr>
            <p:nvPr/>
          </p:nvCxnSpPr>
          <p:spPr>
            <a:xfrm flipV="1">
              <a:off x="4750560" y="2219760"/>
              <a:ext cx="2160" cy="24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3" name="_s8206"/>
            <p:cNvSpPr/>
            <p:nvPr/>
          </p:nvSpPr>
          <p:spPr>
            <a:xfrm>
              <a:off x="3201480" y="1845720"/>
              <a:ext cx="3095640" cy="37440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авовая полит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_s8207"/>
            <p:cNvSpPr/>
            <p:nvPr/>
          </p:nvSpPr>
          <p:spPr>
            <a:xfrm>
              <a:off x="2986200" y="2466000"/>
              <a:ext cx="3526200" cy="47412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осударственная централ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_s8208"/>
            <p:cNvSpPr/>
            <p:nvPr/>
          </p:nvSpPr>
          <p:spPr>
            <a:xfrm>
              <a:off x="358920" y="3458520"/>
              <a:ext cx="1550520" cy="75384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ефор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_s8209"/>
            <p:cNvSpPr/>
            <p:nvPr/>
          </p:nvSpPr>
          <p:spPr>
            <a:xfrm>
              <a:off x="2167920" y="3458520"/>
              <a:ext cx="1970280" cy="75384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акрепощ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рестья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_s8210"/>
            <p:cNvSpPr/>
            <p:nvPr/>
          </p:nvSpPr>
          <p:spPr>
            <a:xfrm>
              <a:off x="3705840" y="4482000"/>
              <a:ext cx="2088720" cy="753840"/>
            </a:xfrm>
            <a:prstGeom prst="roundRect">
              <a:avLst>
                <a:gd name="adj" fmla="val 16667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Борьба 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ппозиционны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боярств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_s8211"/>
            <p:cNvSpPr/>
            <p:nvPr/>
          </p:nvSpPr>
          <p:spPr>
            <a:xfrm>
              <a:off x="5146920" y="3474000"/>
              <a:ext cx="2520000" cy="753840"/>
            </a:xfrm>
            <a:prstGeom prst="roundRect">
              <a:avLst>
                <a:gd name="adj" fmla="val 14106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Борьба с экономически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огуществом  церкв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_s8212"/>
            <p:cNvSpPr/>
            <p:nvPr/>
          </p:nvSpPr>
          <p:spPr>
            <a:xfrm>
              <a:off x="7090560" y="4482000"/>
              <a:ext cx="1765800" cy="753840"/>
            </a:xfrm>
            <a:prstGeom prst="roundRect">
              <a:avLst>
                <a:gd name="adj" fmla="val 14106"/>
              </a:avLst>
            </a:prstGeom>
            <a:solidFill>
              <a:srgbClr val="c9e6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крепл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лужив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ослов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_s8213"/>
            <p:cNvSpPr/>
            <p:nvPr/>
          </p:nvSpPr>
          <p:spPr>
            <a:xfrm>
              <a:off x="1258200" y="4555080"/>
              <a:ext cx="1550520" cy="471240"/>
            </a:xfrm>
            <a:prstGeom prst="roundRect">
              <a:avLst>
                <a:gd name="adj" fmla="val 16667"/>
              </a:avLst>
            </a:prstGeom>
            <a:solidFill>
              <a:srgbClr val="accc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ое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_s8214"/>
            <p:cNvSpPr/>
            <p:nvPr/>
          </p:nvSpPr>
          <p:spPr>
            <a:xfrm>
              <a:off x="1258200" y="5199120"/>
              <a:ext cx="1548360" cy="471240"/>
            </a:xfrm>
            <a:prstGeom prst="roundRect">
              <a:avLst>
                <a:gd name="adj" fmla="val 16667"/>
              </a:avLst>
            </a:prstGeom>
            <a:solidFill>
              <a:srgbClr val="accc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_s8215"/>
            <p:cNvSpPr/>
            <p:nvPr/>
          </p:nvSpPr>
          <p:spPr>
            <a:xfrm>
              <a:off x="1258200" y="5848560"/>
              <a:ext cx="1548360" cy="648720"/>
            </a:xfrm>
            <a:prstGeom prst="roundRect">
              <a:avLst>
                <a:gd name="adj" fmla="val 16667"/>
              </a:avLst>
            </a:prstGeom>
            <a:solidFill>
              <a:srgbClr val="accc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дминистра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ив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_s8216"/>
            <p:cNvSpPr/>
            <p:nvPr/>
          </p:nvSpPr>
          <p:spPr>
            <a:xfrm>
              <a:off x="3705840" y="5563080"/>
              <a:ext cx="2092680" cy="507960"/>
            </a:xfrm>
            <a:prstGeom prst="roundRect">
              <a:avLst>
                <a:gd name="adj" fmla="val 16667"/>
              </a:avLst>
            </a:prstGeom>
            <a:solidFill>
              <a:srgbClr val="accc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причн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апы закрепощения крестья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удебник 1497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введение ограничения перехода крестьян от одного хозяина к другому «Юрьевым днем» при условии уплаты «пожилого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удебник 1550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подтверждение "Юрьева дня" и увеличение "пожилого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581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введение «заповеди»(запрета) на переход в «Юрьев день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581-1592 гг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ие писцовых книг ( перепись насел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597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введени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чных лет», т. е. установление срока сыска беглых в течение 5 л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607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«урочные лета» увеличены до 15 л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оборное уложение 1649 г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тмена «урочных лет», введение бессрочного сыска бег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ая характеристика пра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 пр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ы Земских собор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ы царя и Боярской ду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ы собраний сословных представителей (например, Новоторговый устав 1667 г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гл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орное уложение 1649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борное Уложение 1649 г. как свод феодального пра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дпосылки появления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я в общественно-политических отноше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трение классовой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обенности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печатный кодекс Ро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зировано и обновлено все российское законодатель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етилось разделение правовых норм по отраслям и институт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 казуальности в изложении норм пр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ое закрепление привилегий господствующего сл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1128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борное Уложение 1649 г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3"/>
          <p:cNvSpPr/>
          <p:nvPr/>
        </p:nvSpPr>
        <p:spPr>
          <a:xfrm>
            <a:off x="468360" y="836640"/>
            <a:ext cx="770400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2843280" y="1844640"/>
            <a:ext cx="3776760" cy="405000"/>
          </a:xfrm>
          <a:prstGeom prst="rect">
            <a:avLst/>
          </a:prstGeom>
          <a:solidFill>
            <a:srgbClr val="c9e6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жданское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68360" y="2476440"/>
            <a:ext cx="8280360" cy="376200"/>
          </a:xfrm>
          <a:prstGeom prst="rect">
            <a:avLst/>
          </a:prstGeom>
          <a:solidFill>
            <a:srgbClr val="c9e6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ает дальнейшее закрепление право феодальной собственности  на зем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468360" y="2852640"/>
            <a:ext cx="2735280" cy="1513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ость государства или царя (дворцовые земли, земли  черных волост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3276720" y="2852640"/>
            <a:ext cx="2879640" cy="1368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чинное землевладение (родовые, жалованные, куплен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6156360" y="2852640"/>
            <a:ext cx="2592360" cy="1368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стья, которые давались за службу, главным образом за воен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468360" y="4797360"/>
            <a:ext cx="4032360" cy="358920"/>
          </a:xfrm>
          <a:prstGeom prst="rect">
            <a:avLst/>
          </a:prstGeom>
          <a:solidFill>
            <a:srgbClr val="c9e6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468360" y="5157720"/>
            <a:ext cx="4032360" cy="1368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онодатель устанавливает правило: в случае нарушения срока возврата долга залогодателю собственность на имущество переходит залогодате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5148360" y="4510080"/>
            <a:ext cx="3600360" cy="358920"/>
          </a:xfrm>
          <a:prstGeom prst="rect">
            <a:avLst/>
          </a:prstGeom>
          <a:solidFill>
            <a:srgbClr val="c9e6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учи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2"/>
          <p:cNvSpPr/>
          <p:nvPr/>
        </p:nvSpPr>
        <p:spPr>
          <a:xfrm>
            <a:off x="5148360" y="4869000"/>
            <a:ext cx="3600360" cy="1368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законе указывалось, что поручитель, пострадавший из-за недобросовестности лица, за которое он поручился, вправе взыскать с него все убы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3"/>
          <p:cNvSpPr/>
          <p:nvPr/>
        </p:nvSpPr>
        <p:spPr>
          <a:xfrm>
            <a:off x="1908000" y="4365720"/>
            <a:ext cx="0" cy="4316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4"/>
          <p:cNvSpPr/>
          <p:nvPr/>
        </p:nvSpPr>
        <p:spPr>
          <a:xfrm>
            <a:off x="7020000" y="4221000"/>
            <a:ext cx="0" cy="2890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5"/>
          <p:cNvSpPr/>
          <p:nvPr/>
        </p:nvSpPr>
        <p:spPr>
          <a:xfrm>
            <a:off x="4500720" y="2278080"/>
            <a:ext cx="0" cy="214200"/>
          </a:xfrm>
          <a:prstGeom prst="line">
            <a:avLst/>
          </a:prstGeom>
          <a:ln cap="sq" w="34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1128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орное Уложение 1649 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3"/>
          <p:cNvSpPr/>
          <p:nvPr/>
        </p:nvSpPr>
        <p:spPr>
          <a:xfrm>
            <a:off x="-1044720" y="692280"/>
            <a:ext cx="7704360" cy="55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2195640" y="2852640"/>
            <a:ext cx="4824360" cy="358920"/>
          </a:xfrm>
          <a:prstGeom prst="rect">
            <a:avLst/>
          </a:prstGeom>
          <a:solidFill>
            <a:srgbClr val="c9e6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468360" y="3211560"/>
            <a:ext cx="1439640" cy="792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ступление против рели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2195640" y="4435560"/>
            <a:ext cx="4752720" cy="358560"/>
          </a:xfrm>
          <a:prstGeom prst="rect">
            <a:avLst/>
          </a:prstGeom>
          <a:solidFill>
            <a:srgbClr val="c9e6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наказ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755640" y="5227560"/>
            <a:ext cx="2158920" cy="8654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а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1908000" y="3211560"/>
            <a:ext cx="1656000" cy="792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ступление против государя и госуда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3564000" y="3211560"/>
            <a:ext cx="1800000" cy="792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ступление против боярского управления и су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5364000" y="3211560"/>
            <a:ext cx="1440000" cy="792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ступление против частных л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1"/>
          <p:cNvSpPr/>
          <p:nvPr/>
        </p:nvSpPr>
        <p:spPr>
          <a:xfrm>
            <a:off x="6804000" y="3211560"/>
            <a:ext cx="1728720" cy="792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ступление имуществ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2"/>
          <p:cNvSpPr/>
          <p:nvPr/>
        </p:nvSpPr>
        <p:spPr>
          <a:xfrm>
            <a:off x="3203640" y="5227560"/>
            <a:ext cx="2158920" cy="8654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ртная ка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5651640" y="5227560"/>
            <a:ext cx="2808000" cy="8654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леновредительные и болезненные наказ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4"/>
          <p:cNvSpPr/>
          <p:nvPr/>
        </p:nvSpPr>
        <p:spPr>
          <a:xfrm flipH="1">
            <a:off x="2339640" y="4795920"/>
            <a:ext cx="360360" cy="4316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5"/>
          <p:cNvSpPr/>
          <p:nvPr/>
        </p:nvSpPr>
        <p:spPr>
          <a:xfrm>
            <a:off x="4500720" y="4795920"/>
            <a:ext cx="0" cy="4316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6"/>
          <p:cNvSpPr/>
          <p:nvPr/>
        </p:nvSpPr>
        <p:spPr>
          <a:xfrm>
            <a:off x="6588000" y="4795920"/>
            <a:ext cx="216000" cy="4316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7"/>
          <p:cNvSpPr/>
          <p:nvPr/>
        </p:nvSpPr>
        <p:spPr>
          <a:xfrm>
            <a:off x="4500720" y="4003560"/>
            <a:ext cx="0" cy="4320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8"/>
          <p:cNvSpPr/>
          <p:nvPr/>
        </p:nvSpPr>
        <p:spPr>
          <a:xfrm>
            <a:off x="4500720" y="2492280"/>
            <a:ext cx="0" cy="3603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9"/>
          <p:cNvSpPr/>
          <p:nvPr/>
        </p:nvSpPr>
        <p:spPr>
          <a:xfrm>
            <a:off x="2843280" y="2060640"/>
            <a:ext cx="3305160" cy="404640"/>
          </a:xfrm>
          <a:prstGeom prst="rect">
            <a:avLst/>
          </a:prstGeom>
          <a:solidFill>
            <a:srgbClr val="c9e6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головное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науки истории государства и права Росс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ука историческ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асть истории человечества, тесно связанная с историей экономики, культуры и других областей челове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ука юрид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охватывает развитие всех аспектов эволюции государства, форму государственного единства и так далее, а также прав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ука политическа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метом политологии является политическая система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1128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орное Уложение 1649 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971640" y="907920"/>
            <a:ext cx="770400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2843280" y="2133720"/>
            <a:ext cx="3776760" cy="404640"/>
          </a:xfrm>
          <a:prstGeom prst="rect">
            <a:avLst/>
          </a:prstGeom>
          <a:solidFill>
            <a:srgbClr val="c9e6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ссуальное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2852640"/>
            <a:ext cx="8280360" cy="376200"/>
          </a:xfrm>
          <a:prstGeom prst="rect">
            <a:avLst/>
          </a:prstGeom>
          <a:solidFill>
            <a:srgbClr val="c9e6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ы судеб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468360" y="3228840"/>
            <a:ext cx="4032360" cy="432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яз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4500720" y="3228840"/>
            <a:ext cx="4248000" cy="432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68360" y="3949560"/>
            <a:ext cx="4032360" cy="358920"/>
          </a:xfrm>
          <a:prstGeom prst="rect">
            <a:avLst/>
          </a:prstGeom>
          <a:solidFill>
            <a:srgbClr val="c9e6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альный обы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468360" y="4309920"/>
            <a:ext cx="4032360" cy="1224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л в опросе людей о личности подозреваемого или обвиняе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0"/>
          <p:cNvSpPr/>
          <p:nvPr/>
        </p:nvSpPr>
        <p:spPr>
          <a:xfrm>
            <a:off x="4500720" y="3949560"/>
            <a:ext cx="4248000" cy="358920"/>
          </a:xfrm>
          <a:prstGeom prst="rect">
            <a:avLst/>
          </a:prstGeom>
          <a:solidFill>
            <a:srgbClr val="c9e6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ы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1"/>
          <p:cNvSpPr/>
          <p:nvPr/>
        </p:nvSpPr>
        <p:spPr>
          <a:xfrm>
            <a:off x="4500720" y="4309920"/>
            <a:ext cx="4248000" cy="1224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лась не только по уголовным, но и по гражданским делам с целью получения признаний обвиняе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2"/>
          <p:cNvSpPr/>
          <p:nvPr/>
        </p:nvSpPr>
        <p:spPr>
          <a:xfrm>
            <a:off x="2340000" y="3660840"/>
            <a:ext cx="0" cy="288720"/>
          </a:xfrm>
          <a:prstGeom prst="line">
            <a:avLst/>
          </a:prstGeom>
          <a:ln cap="sq" w="34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6659640" y="3660840"/>
            <a:ext cx="0" cy="288720"/>
          </a:xfrm>
          <a:prstGeom prst="line">
            <a:avLst/>
          </a:prstGeom>
          <a:ln cap="sq" w="34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4"/>
          <p:cNvSpPr/>
          <p:nvPr/>
        </p:nvSpPr>
        <p:spPr>
          <a:xfrm>
            <a:off x="4500720" y="2565360"/>
            <a:ext cx="0" cy="287280"/>
          </a:xfrm>
          <a:prstGeom prst="line">
            <a:avLst/>
          </a:prstGeom>
          <a:ln cap="sq" w="34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1128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орное Уложение 1649 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2843280" y="2133720"/>
            <a:ext cx="3776760" cy="404640"/>
          </a:xfrm>
          <a:prstGeom prst="rect">
            <a:avLst/>
          </a:prstGeom>
          <a:solidFill>
            <a:srgbClr val="c9e6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 на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468360" y="2852640"/>
            <a:ext cx="8280360" cy="2105280"/>
          </a:xfrm>
          <a:prstGeom prst="rect">
            <a:avLst/>
          </a:prstGeom>
          <a:solidFill>
            <a:srgbClr val="c9e6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й стороной правового статуса вотчинного землевладения было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аво наследования вотчи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 вотчинники не имели по Соборному уложению отчуждать свои земли церк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овые и купеческие вотчины не наследовались бездетной вдо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чины наследовали сыновья, а после их смерти – доче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аследовании вотчины несколькими сыновьями право наследования принадлежало им в равной д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"/>
          <p:cNvSpPr/>
          <p:nvPr/>
        </p:nvSpPr>
        <p:spPr>
          <a:xfrm>
            <a:off x="4500720" y="2565360"/>
            <a:ext cx="0" cy="287280"/>
          </a:xfrm>
          <a:prstGeom prst="line">
            <a:avLst/>
          </a:prstGeom>
          <a:ln cap="sq" w="34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65040" y="558936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ема 6. Формирование и эволюция абсолютизма в России. Развитие российского права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 вторая половина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вв.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абсолютиз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бсолютиз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форма правления, при которой верховная власть принадлежит всецело и нераздельно (неограниченно) царю. Царь издает законы, назначает чиновников, собирает и расходует деньги без всякого участия народа в законодательстве и контроле за управ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форма высших органов вла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699 - 1710 г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частичные преобразования в системе высших государственных органов, в структуре местного самоуправления, военная рефор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710 - 1719 г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ликвидация прежних центральных органов власти и управления, создание новой столицы, Сената, проведение первой областной ре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719 - 1725 г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бразование новых органов отраслевого управления для коллегий, проведение второй областной реформы, реформы церковного управления, финансово-налоговые реформы, создание правовой основы для всех учреждений и нового порядка прохождения служ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332000" y="487080"/>
            <a:ext cx="7632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енный строй России при абсолютной монархии ( коне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ервая четвер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нар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сточник всей исполнительной власти, глава государственных  учреждений, верховный судья, верховный главнокомандующий. Ему принадлежит и высшая законодательная вл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ен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чрежден в 1711 г. как высший орган управления общей компетенции. Соста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сенаторов и обер-секрета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курат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фискалит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рганы, имеющие специальные контроль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32000" y="487080"/>
            <a:ext cx="7632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енный строй России при абсолютной монархии ( коне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ервая четвер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ллег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центральные органы управления, возникшие в результате перестройки приказной системы. Высшее судебное ведомство – Юстиц-колле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ладывание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рехзвенной системы местного управления: уезд-провинция-губер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3"/>
          <p:cNvSpPr/>
          <p:nvPr/>
        </p:nvSpPr>
        <p:spPr>
          <a:xfrm>
            <a:off x="468360" y="2276640"/>
            <a:ext cx="3959280" cy="398880"/>
          </a:xfrm>
          <a:prstGeom prst="rect">
            <a:avLst/>
          </a:prstGeom>
          <a:solidFill>
            <a:srgbClr val="cccc00"/>
          </a:solidFill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ы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4643280" y="2276640"/>
            <a:ext cx="3884760" cy="398880"/>
          </a:xfrm>
          <a:prstGeom prst="rect">
            <a:avLst/>
          </a:prstGeom>
          <a:solidFill>
            <a:srgbClr val="cccc00"/>
          </a:solidFill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одское нас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468360" y="2679840"/>
            <a:ext cx="3959280" cy="2045880"/>
          </a:xfrm>
          <a:prstGeom prst="rect">
            <a:avLst/>
          </a:prstGeom>
          <a:solidFill>
            <a:srgbClr val="accc38"/>
          </a:solidFill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адские схо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гистр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ховые организации состояли 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рши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сте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мастерье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4640400" y="2676600"/>
            <a:ext cx="2158920" cy="2843640"/>
          </a:xfrm>
          <a:prstGeom prst="rect">
            <a:avLst/>
          </a:prstGeom>
          <a:solidFill>
            <a:srgbClr val="accc38"/>
          </a:solidFill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егулярные граждане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льдия (банкиры,   купцы, доктора, художники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-ая гильди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ремесленники, портные, сапожники, мелкие торговц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6800760" y="2676600"/>
            <a:ext cx="1727280" cy="3097800"/>
          </a:xfrm>
          <a:prstGeom prst="rect">
            <a:avLst/>
          </a:prstGeom>
          <a:solidFill>
            <a:srgbClr val="accc38"/>
          </a:solidFill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длые люди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тегория наиболее социально незащищенного слоя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9"/>
          <p:cNvSpPr/>
          <p:nvPr/>
        </p:nvSpPr>
        <p:spPr>
          <a:xfrm>
            <a:off x="1511280" y="0"/>
            <a:ext cx="76327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административной централизации в социальной структуре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51128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я в социальной структуре общест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95280" y="2133720"/>
          <a:ext cx="8424720" cy="43462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435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стьян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11 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устанавливались льготы торгующим в город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21 г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купцы приписы-вали их к мануфактурам, покупали с деревн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22 г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запрещается торговать в город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26 г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выдача паспортов крестьянам-отходни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31 г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запрещено торговать в портах, выпускать товары, брать подря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ccc3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рян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14 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Указ о единонаслед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22 г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«Табель о рангах» Петр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36 г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рок государственной службы – 2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62 г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отмена обязательной дворянской служ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рков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01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г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 монастырский 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21 г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полный контроль Син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22 г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вступление в духовное сословие жестко регламентиру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37 г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часть духовенства подвергается военному призы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64 г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указ, лишивший церковь всех вотчин, монастыри и епархии переведены на штатные окла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9e61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права в России в конц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первой половин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пра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оборное Уложение 164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егламе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конодательные акты, определявшие общую структуру, штаты, функции и направления деятельности государственных органов 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Манифес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здавшиеся в особо торжественных или важных случа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Устав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борники законов, объединяющие нормы права, относившиеся к определенной сфере государствен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Указ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едоставлявшие собой акты, содержащие правовые нормы и административные предписания, которые были направлены на решение конкретного дела или случ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одизация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са истории государства и права Росси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ерусское государство и право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X – X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о и право Руси в период феодальной раздробленност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ереди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е Московского государства и создание единой государственности и единой правовой системы (коне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 – XV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о и право Российской импери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 – 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в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жуазно-либеральная эволюция российской государственно-правовой системы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 кодификационной работы первой четвер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ртикул воинский 1715 г.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ставляющий собой уголовный кодекс. Каждый артикул описывал отдельный вид правонарушения и назначал определенную санк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раткое изображение процессов или судебных тяжб  1715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оцессуальный кодек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енеральный регламент 172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 сборник административного законодатель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ункты о вотчинных делах 1725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бобщение судебной практики и толкования законов о наслед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тикул воинский 1715 г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24 главы, 209 артикулов - статей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иды преступлений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игиоз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жност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инск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 порядка управления и с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 благочи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ущественные преступ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 нрав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632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и наказания: устрашение, возмездие, изоляции преступников и эксплуатация их труд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681440"/>
          </a:xfrm>
          <a:prstGeom prst="rect">
            <a:avLst/>
          </a:prstGeom>
          <a:solidFill>
            <a:srgbClr val="c9e61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иды наказания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тная каз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сные наказания (членовредительные, болезненные и клейме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оржные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юремное заклю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шение чести и достоин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ущественные наказания (конфискация имущества, штраф, вычет из жалова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рковное покая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государственной системы во второй четвер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ерховный тайный совет (1726-1730): решение вопросов внутренней и внешней политики, законодательные полномо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бинет министров (1730-1741): вначале выполнила совещательные функции, с 1735 г. сосредоточила в своих руках все государственное  упр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бинет ее Величества (с 1741г.)(при Елизавете), Императорский совет (при Петр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Совет при высочайшем дворе (при Екатери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)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нижается роль Сената как высшего органа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вивается и укрепляется система губернского и местного 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росвещенный абсолютизм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свещенный абсолюти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литический режим, характерный для стран с медленным развитием капит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его основе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реодоление феодальных порядк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одаря политике монархов, руководствующихся идеями философов – просвет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онарх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единственно возможная для России форма 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онар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люститель законов, стремящийся к установлению «законной монарх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лях укрепления законности необходимо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роведение правовой ре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енные реформы периода «просвещенного абсолютизма 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еформа Сената 1763 г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ат превращен в центральное административное учреждение, разделен на 6 департаментов, в каждом департаменте дела решаются коллегиально, при разногласиях переносятся в общее собр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еорганизация коллегиальной системы 1784 г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784-1786 гг. было предложено реформировать систему центрального управления, перенеся центр тяжести в губернии, разукрупнив местные органы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удебная реформа 1775 г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 сословной судебн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овет при Высочайшем дворе 1768 г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 в качестве совещательного органа по вопросам преимущественно внешней 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одательная деятельность Екатерин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Наказ» 176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ие принципы устройства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ы государственного законодательства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оловное право и судопроизво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оложения сословно-правовой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ая техника, теория, законодательно-правовая ре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ы административно-полицейского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ирование финансов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одательная деятельность Екатерин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продолжение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Жалованная грамота городам» 1785 г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магистратам присоединены: городской голова и дума (общая и шестиглас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Жалованная грамота дворянству» 1785 г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ый акт закрепления привилегированного положения дворянского со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чреждения о губерниях 1775 г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 в провинциях принципов сословн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став о благочинии 1781 г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ламентировал структуру полицейских органов, их систему, основные направления деятельности, перечень наказуемых дея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ловно- правовые преобразования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3276720" y="1844640"/>
            <a:ext cx="2232000" cy="432000"/>
          </a:xfrm>
          <a:prstGeom prst="rect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р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900000" y="2492280"/>
            <a:ext cx="7559640" cy="649440"/>
          </a:xfrm>
          <a:prstGeom prst="rect">
            <a:avLst/>
          </a:prstGeom>
          <a:solidFill>
            <a:srgbClr val="accc3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аз о единонаследии 1714 г., «Табель о рангах» 1722 г., «Манифест 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ьности дворянства» 1762 г.. «Жалованная грамота дворянству» 178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250920" y="4292640"/>
            <a:ext cx="2087640" cy="180036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дворянское з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валось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ледств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головно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ступле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ло к лишени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орянского з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3276720" y="33577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2411280" y="4292640"/>
            <a:ext cx="1656000" cy="180036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ли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на защи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сти, личност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вобожде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телесных 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каз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4140360" y="4292640"/>
            <a:ext cx="1800000" cy="180036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муществ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ное прав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ственности н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обретение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ьзование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ледован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юбого иму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9"/>
          <p:cNvSpPr/>
          <p:nvPr/>
        </p:nvSpPr>
        <p:spPr>
          <a:xfrm>
            <a:off x="6012000" y="4292640"/>
            <a:ext cx="2806560" cy="180036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удеб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ые права дворян ограни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ны только суд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орянина судил равны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сословию господи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ловное самоуправле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орян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0"/>
          <p:cNvSpPr/>
          <p:nvPr/>
        </p:nvSpPr>
        <p:spPr>
          <a:xfrm flipH="1">
            <a:off x="1763640" y="3645000"/>
            <a:ext cx="1944720" cy="647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1"/>
          <p:cNvSpPr/>
          <p:nvPr/>
        </p:nvSpPr>
        <p:spPr>
          <a:xfrm flipH="1">
            <a:off x="3347640" y="3789360"/>
            <a:ext cx="57636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2"/>
          <p:cNvSpPr/>
          <p:nvPr/>
        </p:nvSpPr>
        <p:spPr>
          <a:xfrm>
            <a:off x="4643280" y="3789360"/>
            <a:ext cx="43344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5003640" y="3645000"/>
            <a:ext cx="1440000" cy="576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ловно- правовые преобразования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3276720" y="1844640"/>
            <a:ext cx="2232000" cy="432000"/>
          </a:xfrm>
          <a:prstGeom prst="rect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щ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250920" y="2492280"/>
            <a:ext cx="4105080" cy="792360"/>
          </a:xfrm>
          <a:prstGeom prst="rect">
            <a:avLst/>
          </a:prstGeom>
          <a:solidFill>
            <a:srgbClr val="accc3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щанское сословие создано путе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законении, касающихся управления гор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250920" y="4508640"/>
            <a:ext cx="2952720" cy="180000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ли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 на охрану чест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сти, достоин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 на перемещ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ыезд за гра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6"/>
          <p:cNvSpPr/>
          <p:nvPr/>
        </p:nvSpPr>
        <p:spPr>
          <a:xfrm>
            <a:off x="3276720" y="3573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3348000" y="4508640"/>
            <a:ext cx="2592360" cy="180000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муществ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 собственности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адлежащ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уществ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 на  вла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приятиям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 на торгов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8"/>
          <p:cNvSpPr/>
          <p:nvPr/>
        </p:nvSpPr>
        <p:spPr>
          <a:xfrm>
            <a:off x="6012000" y="4508640"/>
            <a:ext cx="2806560" cy="1800000"/>
          </a:xfrm>
          <a:prstGeom prst="rect">
            <a:avLst/>
          </a:prstGeom>
          <a:solidFill>
            <a:srgbClr val="c9e61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обязательств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щане должны ж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иметь дом) в город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подлежали подуш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ати и рекрутчин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щане не могли владе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9"/>
          <p:cNvSpPr/>
          <p:nvPr/>
        </p:nvSpPr>
        <p:spPr>
          <a:xfrm flipH="1">
            <a:off x="1763640" y="3860640"/>
            <a:ext cx="1944720" cy="64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0"/>
          <p:cNvSpPr/>
          <p:nvPr/>
        </p:nvSpPr>
        <p:spPr>
          <a:xfrm>
            <a:off x="4427640" y="4005360"/>
            <a:ext cx="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1"/>
          <p:cNvSpPr/>
          <p:nvPr/>
        </p:nvSpPr>
        <p:spPr>
          <a:xfrm>
            <a:off x="5003640" y="3860640"/>
            <a:ext cx="1440000" cy="576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2"/>
          <p:cNvSpPr/>
          <p:nvPr/>
        </p:nvSpPr>
        <p:spPr>
          <a:xfrm>
            <a:off x="4716360" y="2492280"/>
            <a:ext cx="4103640" cy="792360"/>
          </a:xfrm>
          <a:prstGeom prst="rect">
            <a:avLst/>
          </a:prstGeom>
          <a:solidFill>
            <a:srgbClr val="accc3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ламент Главного магистрата 1719 г.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Наказ» Екатер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767 г.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Жалованная грамота городам» 178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8:56:36Z</dcterms:created>
  <dc:creator>`dimka</dc:creator>
  <dc:description/>
  <dc:language>en-US</dc:language>
  <cp:lastModifiedBy>Evgeniya Pokhilko</cp:lastModifiedBy>
  <dcterms:modified xsi:type="dcterms:W3CDTF">2023-10-09T11:00:00Z</dcterms:modified>
  <cp:revision>171</cp:revision>
  <dc:subject/>
  <dc:title>История госудаства права</dc:title>
</cp:coreProperties>
</file>