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1D4-9351-4C32-81CB-AAE3D193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068-603E-4260-864E-F28A5622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E3E8-785D-45A8-A700-7B6E0A41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5A7-AD8B-4097-B7D0-F3D31A64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7B5C-1314-4DFD-A104-9A699302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EF6A-404E-44A5-A54E-86AAEF4E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7A66-2646-42D2-AFB0-02BBDD0C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E1A5-8C6B-4030-8C59-A21909CA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338B-3A48-4E4E-A938-2FA6C5A8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4456-AAE0-46CE-9608-7DF9C1F4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3CF2-2A56-4E4D-A475-23C6523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62F-3352-4E34-985E-F9C855CD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D0D7-9962-4A63-8F31-13239B62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26AE-3225-4FA8-AFC4-B90864C1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649D-AA00-42AF-9BE5-531B2D1D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DE8B-9CB4-4DBF-9D6F-E4B3C02C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2047-BF65-4BC6-B530-158A85FB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7F5-F369-445B-9790-445E68C1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C72-26EF-4747-87D3-43B104D0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104-07E9-468B-8764-DED0BCEE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326-4F7E-4641-A970-E871013C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792-A3DD-4D09-A480-6DDB6E53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38E-FE09-436B-BAC9-C20380BC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331-737D-4FD5-8C5E-5A840ADC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7AD5-B94A-48A6-A72C-EAF36F208D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E0B3-DDF4-4C6C-B16A-FF8370CDB09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D:/&#208;&#152;&#208;&#158;&#208;&#147;&#208;&#159;/&#208;&#159;&#208;&#190;&#209;&#129;&#208;&#190;&#208;&#177;&#208;&#184;&#208;&#181;/Files/1724.html#Gloss_80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Times New Roman"/>
              </a:rPr>
              <a:t>История государства и права Росс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8A99-5D78-48CD-945B-76D316DB782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Coronet"/>
              </a:rPr>
              <a:t>Предпосылки образования централизованного русского государства</a:t>
            </a:r>
            <a:r>
              <a:rPr b="0" lang="ru-RU" sz="3000" spc="-1" strike="noStrike">
                <a:solidFill>
                  <a:srgbClr val="ccecff"/>
                </a:solidFill>
                <a:latin typeface="Coronet"/>
              </a:rPr>
              <a:t> 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181080" y="1628280"/>
            <a:ext cx="90741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 рубеже XIII - ХIV веков на Руси сформировались предпосылки для объединения разрозненных земель в централизованное государ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и таких предпосылок, прежде всего, следует отметить идеологические предпосылк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вной причиной централизации русских государств явился общий подъем производительных сил. В результате неустанного труда русских крестьян и ремесленников постепенно созрели условия для дальнейшего развития феодальной экономик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 числе указанных выше предпосылок ведущую роль играли социально-экономическое развитие и классовая борьб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тив объединения выступали прежде всего крупные феодалы и князья, не желавшие терять своей независимости, а также золотоордынские ханы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90F3-ACB8-40E3-8043-D0C48CFD8C4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24000" y="404280"/>
            <a:ext cx="8948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обенностью образования русского централизованного государства было то, что оно складывалось как многонациональное. В состав России вошли татары, мари, удмурты, саами, коми, мари, ханты, мордва, карелы, чуваши, мещера и др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торическую роль в объединении Руси в централизованное государство сыграла Москв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ъединение русских земель было закончено в начале XVI в. при великом князе Василии III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ким образом, образование централизованного русского государства явилось прогрессивным явлением в истории Русского государства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3F69-E899-49E4-B90F-235251F74D7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Times New Roman"/>
              </a:rPr>
              <a:t>Буржуазные реформы второй половины </a:t>
            </a:r>
            <a:r>
              <a:rPr b="1" lang="en-US" sz="3000" spc="-1" strike="noStrike">
                <a:solidFill>
                  <a:srgbClr val="ccecff"/>
                </a:solidFill>
                <a:latin typeface="Times New Roman"/>
              </a:rPr>
              <a:t>XIX</a:t>
            </a:r>
            <a:r>
              <a:rPr b="1" lang="ru-RU" sz="3000" spc="-1" strike="noStrike">
                <a:solidFill>
                  <a:srgbClr val="ccecff"/>
                </a:solidFill>
                <a:latin typeface="Times New Roman"/>
              </a:rPr>
              <a:t> века</a:t>
            </a:r>
            <a:r>
              <a:rPr b="0" lang="ru-RU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25360"/>
            <a:ext cx="89647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Юридическим выражением крестьянской реформы являлись "Манифест о всемилостливейшем даровании крепостным людям прав состояния свободных сельских обитателей, и об устройстве их быта". (1861 г. 19 февраля), "Общее положение о крестьянах, вышедших из крепостной зависимости"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дной из первых буржуазных реформ последовавшей за крестьянской была земская реформа. Она внесла существенные изменения в систему органов местного управления. На местах для обеспечения "земских польз и нужд" для руководства местным хозяйством были созданы земские учреждения - губернские и уездные земские собрания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6480" y="1125360"/>
            <a:ext cx="8183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0022-4990-454E-90CF-A9397F2511F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24360" y="404280"/>
            <a:ext cx="9217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 1870 году на тех же принципах была проведена городская реформа, в результате которой были созданы городские управ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форма полицейских органов. В 1862 году городская и уездная полиция объединены в единое уездное полицейское управление во главе с исправником, назначаемым губернаторо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удебная реформа 1864 года явилась составной частью реформ 60-х годов. Судебные уставы состояли из четырех законодательных актов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 Учреждения судебных установлени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 Устава уголовного судопроизводств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 Устава гражданского судопроизводств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. Устава о наказаниях, налагаемых мировыми судьям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7947-1B59-4D2E-B14C-4B25535A067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24360" y="404280"/>
            <a:ext cx="9217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формой 1864 года была установлена следующая система суд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ные и общие суды . Суды избираемые судами - местные суды. Общие суды с назначаемыми судьями - окружные суды и судебные палат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курорский надзор осуществлялся обер-прокурорами, прокурорами и их товарищами.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Мировые судь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, участковые и почетные, избирались сроком на три года уездными земскими собраниями и городскими думами из числа лиц, проживающих в данной местности, имеющих определенный возрастной, образовательный, служебный и имущественный ценз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3FF8-DD8B-47E4-9030-031CDFC8570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Первая русская революция.</a:t>
            </a:r>
            <a:br>
              <a:rPr sz="3600"/>
            </a:b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1905-1907 гг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904 - 1905 гг.- русско-японская вой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ерешённость крестьянского вопрос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900 - 1903 гг.- экономический кризи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ксплуатация рабочи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Буржуазия не имела силы и не являлась оппозицией самодержави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06B1-BAA0-4E51-B8BA-52F80C8CC88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Государственная Дума, как компромисс между царизмом и либерализмом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Verdana"/>
              </a:rPr>
              <a:t>I</a:t>
            </a:r>
            <a:r>
              <a:rPr b="1" lang="ru-RU" sz="1600" spc="-1" strike="noStrike">
                <a:solidFill>
                  <a:srgbClr val="ccecff"/>
                </a:solidFill>
                <a:latin typeface="Verdana"/>
              </a:rPr>
              <a:t> Госдума 28 апреля-8 июля 1906 г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остав: либеральные партии 43%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рудовики и социал-демократы 23%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ционалисты 14%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ольшевики бойкотировали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черносотенцы не прошл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ые вопросы- аграрный, программа демократизации России. Распущена, как «сеющая смуту»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Verdana"/>
              </a:rPr>
              <a:t>II</a:t>
            </a:r>
            <a:r>
              <a:rPr b="1" lang="ru-RU" sz="1600" spc="-1" strike="noStrike">
                <a:solidFill>
                  <a:srgbClr val="ccecff"/>
                </a:solidFill>
                <a:latin typeface="Verdana"/>
              </a:rPr>
              <a:t> Госдума 20 февраля – 3 июня 1907 г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остав: «Либеральный блок»(эсеры, трудовики и социал-демократы)-43%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деты – 19%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Черносотенцы- 10%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ционалисты и октябристы – 15%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ые вопросы: аграрный, налогообложение, политические свободы. Распущена, под предлогом подготовки государственного переворо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DF49-CDBB-4AB1-9ED8-2D62A55E8F8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Результаты первой русской революции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1905-1907 гг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Главный итог революции- это революционные изменения в сознании народа. Революция нанесла удар по самодержавию, в стране появились элементы демократии – Государственная Дума, многопартийность, признание прав личности, но без гарантий их соблюден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деревне были отменены выкупные платежи, снижена арендная плата за землю. Но аграрный вопрос не был решен: сохранялось помещичье землевлад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Рабочие получили право создавать профсоюзы, разрешались забастовки. Рабочий день сокращен до 9 часов, повышена зарплат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Русификаторская политика самодержавия была значительно ограничена: в школах вводилось преподавание на национальных языках. Национальные окраины получили представительство в Дум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о основные противоречия русской действительности решены не были: </a:t>
            </a: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оставалось самодержавие, помещичье землевладение, национальные противоречия, не было введено современное рабочее законодательство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F288-B86B-4172-B5FF-146419A6A0F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Times New Roman"/>
              </a:rPr>
              <a:t>Методика изучения курса история государства и права России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8920" y="1628280"/>
            <a:ext cx="87138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Как историческая наука «История государства и права России» изучает процесс закономерной смены различных типов и форм российской государственности, отечественных правовых систем за определенный исторический отрезок времени.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Как наука юридическая она является одной из базовых фундаментальных правовых учебных дисциплин, которая формирует свою часть понятийного аппарата юриспруденции, обеспечивает направленность обучения на реализацию правовых норм и обеспечения правопорядка в различных сферах жизни общества.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5987-19D8-458F-B7EE-A96B3FE9FDF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252360" y="259920"/>
            <a:ext cx="90216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урс «История государства и права России» предусматривает изучение истории формирования древнерусского государства и права, а также государственных и правовых институтов русских земель периода феодальной раздробленност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2760" indent="-5727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572760" indent="-5727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учается образование российского государства и развития права в условиях сословно-представительной монарх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2760" indent="-5727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572760" indent="-5727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ссматриваются особенности становления абсолютной монархии в России и ее правового обоснова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2760" indent="-5727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572760" indent="-5727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уденты изучают  эволюцию государства и права России в период становления и развития капитализм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2760" indent="-5727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572760" indent="-5727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курсе представлена история  развития советского государства и права, становления и дальнейшего совершенствования государства и права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E18A-834C-43E3-856A-3D8B8D6E2AD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Times New Roman"/>
              </a:rPr>
              <a:t>ЛИТЕРАТУРА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9280" y="1197000"/>
            <a:ext cx="8445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Основная: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 История отечественного государства и права. Ч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Учебник / Под ред. О.И. Чистякова - М., 201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 История отечественного государства и права. Ч.П. Учебник / Под ред. О.И. Чистякова - М., 201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 История государства и права России / Отв. ред. Ю.П. Титов. - М., Велби, Проспект. 201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. Исаев И.А. История государства и права России. Учебник.. 4-ое издание. - М., Проспект.  201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97FF-3849-4085-9965-34C1E06B0E5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97080" y="115920"/>
            <a:ext cx="916596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Дополнительная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Ключевский В.О. Сочинение в 9-ти томах. -М., 1987-1990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6. Маньков А.Г. Уложение 1649 г. Кодекс феодального права России. - Л., 1980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7. Омельченко О.А. Кодификация права в России  в период абсолютизма. - М., 1989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8. Развитие русского права в 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XV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- первой половине 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XVII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вв./ Под ред. В.С. Нерсесянца - М., 1992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9. Рыбаков Б.А. Киевская Русь и русские княжества (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XII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XIII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вв.) - М., 1982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10. Свердлов М.В. Генезис и структура феодального общества Древней Руси. -М.,  1983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11. Черепнин Л.В. Земские Соборы Русского государства 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XVI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XVII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вв. - М., 1978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12. Черепнин Л.В. Образование русского централизованного государства - М., 1978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13. Юшков С.В. Русская правда. - М., 1950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14. Исаев И.М. Титов Ю.П. Хрестоматия по истории государства и права России -М., 1996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6BA6-4CAA-4F5E-A628-C79C38C153E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181440" y="333000"/>
            <a:ext cx="9001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ревнерусское государство в своем развитии прошло три этапа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ервый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в форме раннефеодального государства (конец IX-X вв.) Этот период характеризуется завершением процесса объединения славянских племен в единое государство, формированием и совершенствованием государственного аппарата и военной организа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торой этап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период расцвета Киевской Руси (конец XI - первая пол. XI вв.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Третий этап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вторая половина XI в. - первая половина XII в. - период экономического и политического ослабления Руси. Во второй половине XI в. наметились тенденции к феодальной раздробленност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ACB2-875F-482E-90C3-879EBA3A9CB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404640"/>
            <a:ext cx="8877240" cy="626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циальная структура общества. По занимаемому положению в обществе их можно назвать классами или социальными группами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феодалы (князья великие и удельные, бояре, церковь и монастыри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свободные общинники (сельские и городские "люди" и "людины"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смерды (крестьяне-общинники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закупы (человек, попавший в долговую кабалу и отрабатывающий "купу"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изгои (человек, вышедший из общины или освободившийся от холопства выкупом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челядь и холопы (придворные рабы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городское население (городская аристократия и городские низы);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BAD9-8B5A-43AF-9AC9-51E23CB8EEC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181440" y="476280"/>
            <a:ext cx="9217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ластные функции великого киевского князя в период княжения Олега (882-912 гг.), Игоря (912-945 гг.) и регентши Ольги при Святославе (945-964 гг.) были относительно несложны и заключались в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организации дружины и военных ополчений и командования им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охране границ государств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организации походов на новые земли, захват пленных и взимание с них дан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поддержании нормальных внешнеполитических отношений с кочевыми племенами юга, Византийской империей, странами Восто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4AB6-EC86-436C-9774-EF76704AB98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50560" y="333000"/>
            <a:ext cx="8569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 конце X века функции власти великого князя претерпевают изменения. Отчетливее стал проявляться феодальный характер власти княз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нязь становится организатором и командующим вооруженными силами (многоплеменной состав вооруженных сил усложняет эту задачу)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заботится о строительстве укреплений по внешней границе - государства, строительстве дорог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налаживает внешние сношения с целью обеспечения безопасности границ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осуществляет судопроизводство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осуществляет утверждение христианской религии и материально обеспечивает духовенство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04:14Z</dcterms:created>
  <dc:creator>sokmv</dc:creator>
  <dc:description/>
  <dc:language>en-US</dc:language>
  <cp:lastModifiedBy>Буреев</cp:lastModifiedBy>
  <dcterms:modified xsi:type="dcterms:W3CDTF">2017-08-25T06:09:45Z</dcterms:modified>
  <cp:revision>16</cp:revision>
  <dc:subject/>
  <dc:title>Цели выполнения ВКР (дипломные работы)</dc:title>
</cp:coreProperties>
</file>